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2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3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9C59-79FD-45E8-87D7-2CF54FE16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2840" y="468468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was the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act of these services?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University of Bristol evaluation looked at 6 month perio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CP (yellow) users m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t home /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ss in hospita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han non DCP (orang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reflected in impact on all death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valuation did analysis to control for patient group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– i.e. age &amp; diagnosis – to check that DCP wasn’t attracting a type of patients inherently prone to home deat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2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505e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  <a:p>
            <a:pPr lvl="1" marL="212760" indent="-21132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4264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24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476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898560"/>
            <a:ext cx="9144000" cy="5959440"/>
          </a:xfrm>
          <a:prstGeom prst="rect">
            <a:avLst/>
          </a:prstGeom>
          <a:solidFill>
            <a:srgbClr val="2b5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58920" y="6334200"/>
            <a:ext cx="2971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6921-F755-4BCA-A0E1-748BE409F7DD}" type="datetime3">
              <a:rPr b="0" lang="en-GB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28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943600" y="639756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8560" y="901440"/>
            <a:ext cx="8389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s - Proportion of people dying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324000" y="5373720"/>
            <a:ext cx="8424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7% of Marie Curie Nursing Service patients died at home but only 35% of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act of Marie Curie Nursing Service care on home deaths is greater for those with no history of cancer than for those with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30477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0" y="1989000"/>
            <a:ext cx="9144000" cy="287640"/>
          </a:xfrm>
          <a:prstGeom prst="rect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Garamond"/>
              </a:rPr>
              <a:t>Figure 2 – Place of death for Marie Curie Nursing Service patients &amp; matched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Q584 Somerset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4:53:31Z</dcterms:created>
  <dc:creator>Joe Samuel</dc:creator>
  <dc:description/>
  <dc:language>en-US</dc:language>
  <cp:lastModifiedBy>Shreshtha Trivedi</cp:lastModifiedBy>
  <dcterms:modified xsi:type="dcterms:W3CDTF">2012-11-21T16:58:18Z</dcterms:modified>
  <cp:revision>37</cp:revision>
  <dc:subject/>
  <dc:title>Add title here</dc:title>
</cp:coreProperties>
</file>