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E92-4B04-4325-8A94-31E9BF17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9AF-B52D-491E-96CD-B1752F8A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3BA-98FA-4277-A051-9037EB11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A87-7448-42C0-8C36-E494FD1C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B84-0824-40D5-8771-701BE729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0C7-36AE-4F4A-9A3E-DC02E91B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18C-876E-4F6A-A7E6-88C4348A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482-D117-44B9-B97D-B63D87B9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158-1ADE-4A8D-9F77-49735D8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05D-5864-4408-89FB-6E56DD0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152-DE5C-49D5-8A73-FDFB8F3C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12E-48F7-42A2-88F1-0AC2032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476440" y="266760"/>
            <a:ext cx="6667560" cy="6591240"/>
            <a:chOff x="2476440" y="266760"/>
            <a:chExt cx="6667560" cy="65912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476440" y="4213080"/>
              <a:ext cx="6667560" cy="26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461360" y="266760"/>
              <a:ext cx="130788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054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1" marL="14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2" marL="285840" indent="-282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3" marL="517680" indent="-2304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4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5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6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146-2E67-49C7-A920-C925345B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275600" y="1895400"/>
              <a:ext cx="1417680" cy="11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20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2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87280" algn="ctr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191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h.gov.uk/PolicyAndGuidance/HealthAndSocialCareTopics/Flu/fs/en" TargetMode="External"/><Relationship Id="rId2" Type="http://schemas.openxmlformats.org/officeDocument/2006/relationships/hyperlink" Target="http://www.hpa.org.uk/infections/topics_az/influenza/flu.htm" TargetMode="External"/><Relationship Id="rId3" Type="http://schemas.openxmlformats.org/officeDocument/2006/relationships/hyperlink" Target="http://www.hpa.org.uk/infections/topics_az/influenza/flu.htm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 </a:t>
            </a:r>
            <a:br>
              <a:rPr sz="2800"/>
            </a:b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Host 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Exercise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Four ‘blocks’ of time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0 – between 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6 – First cases – 2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11 -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21 -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represents a single day in the pandemic cycle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will bring out specific topic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adly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cc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ti vir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ffing an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Key Planning Assumption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e exercise has been developed using the Department of Health’s planning assumption (July 2009) of: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 30% clinical attack rate and a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ase-fatality rate of  up to 0.35%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uidance Availabl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1280" y="119700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86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Department of Health Pandemic Influenza Pla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dh.gov.uk/PolicyAndGuidance/EmergencyPlanning/Pandemic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Flu key documents and resources for patients and health professional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1"/>
              </a:rPr>
              <a:t>http://www.dh.gov.uk/PolicyAndGuidance/HealthAndSocialCareTopics/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0054"/>
                </a:solidFill>
                <a:latin typeface="Arial"/>
              </a:rPr>
              <a:t>Department of Health Emergency Preparednes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Beyond a Major Incident – planning for potentially large numbers of casualties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http://www.dh.gov.uk/PolicyAndGuidance/EmergencyPlanning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Health Protection Agency: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3"/>
              </a:rPr>
              <a:t>www.hpa.org.uk/infections/topics_az/influenza/flu.htm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NICE (National Institute for Health and Clinical Excellence)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http://www.nice.org.uk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WHO Influenza Pandemic Influenza Preparedness and Response Guidance document is available at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who.int/csr/disease/influenza/PIPGuidance09.pdf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On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One – Reviewing and Preparing for the Winter Flu Season – 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Plans and Planning Proces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oles &amp; Responsibiliti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ata Gathering, Surveillance &amp; Reporting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o-ordination of Media &amp; Public Communication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wo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wo – Initial response to second wave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stribution of antiviral treatment and health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accina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Use of Personal Protective Equipment (PPE) and infection control guidanc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What measures are you planning locally?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of the emergenc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ocial distancing measures/Schools/Travel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hre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Core Statemen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d0054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2d0054"/>
                </a:solidFill>
                <a:latin typeface="Arial"/>
              </a:rPr>
              <a:t>'We don't know enough about this virus to draw any conclusions about its severity,' he said. 'At this stage I think it would be premature to conclude that this is a mild infection.'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6068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Sir Liam Donald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Chief Medical Officer, May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702000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hree – Business Continuity at the peak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arrangement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taff Shortages/Re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usiness Continuit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Management of death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 distribu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Four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Four - Recovery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cover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oluntar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ereavemen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Lessons learned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</a:t>
            </a:r>
            <a:br>
              <a:rPr sz="2800"/>
            </a:b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Aims &amp; Objective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view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the spring/summer H1N1v pandemic flu wave and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epare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for a more serious second wave during this winter flu season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4786920" y="1340280"/>
            <a:ext cx="3745080" cy="4032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032360"/>
              <a:gd name="textAreaBottom" fmla="*/ 3849840 h 4032360"/>
            </a:gdLst>
            <a:ahLst/>
            <a:rect l="textAreaLeft" t="textAreaTop" r="textAreaRight" b="textAreaBottom"/>
            <a:pathLst>
              <a:path w="21600" h="23257">
                <a:moveTo>
                  <a:pt x="3600" y="0"/>
                </a:moveTo>
                <a:arcTo wR="3600" hR="3600" stAng="16200000" swAng="-5400000"/>
                <a:lnTo>
                  <a:pt x="0" y="19657"/>
                </a:lnTo>
                <a:arcTo wR="3600" hR="3600" stAng="10800000" swAng="-5400000"/>
                <a:lnTo>
                  <a:pt x="18000" y="2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39640" y="1267920"/>
            <a:ext cx="3745080" cy="417672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176720"/>
              <a:gd name="textAreaBottom" fmla="*/ 3994200 h 4176720"/>
            </a:gdLst>
            <a:ahLst/>
            <a:rect l="textAreaLeft" t="textAreaTop" r="textAreaRight" b="textAreaBottom"/>
            <a:pathLst>
              <a:path w="21600" h="24089">
                <a:moveTo>
                  <a:pt x="3600" y="0"/>
                </a:moveTo>
                <a:arcTo wR="3600" hR="3600" stAng="16200000" swAng="-5400000"/>
                <a:lnTo>
                  <a:pt x="0" y="20489"/>
                </a:lnTo>
                <a:arcTo wR="3600" hR="3600" stAng="10800000" swAng="-5400000"/>
                <a:lnTo>
                  <a:pt x="18000" y="24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Seasonal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vs Pandemic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407700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SEASONAL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every year during the winte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ffects up to 1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The very young, the very old and people with certain chronic illness are most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nual vaccination availabl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vailable for th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48428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PANDEMIC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about 3 times each century – at any time of the yea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May affect up to 3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People of every age may b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Vaccine won’t be available initially - in the first wav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re likely to be in limited supply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6440" y="1341360"/>
            <a:ext cx="8856720" cy="331164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Previous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Pandemic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2640" y="134136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Pandemic         Spanish Flu            Asian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Hong Kong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 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Strain: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A(H1N1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A(H2H2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A(H3N2)                       A(H1N1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Year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1918-191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1957-1958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968-196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2009 -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Origin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Not know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China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China                           Mexico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Estimated Death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Global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40 million            1millio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-4 million                         ?   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UK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250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33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30,000                 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Age Group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50 yrs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under 14 yrs     under 5 yrs       </a:t>
            </a:r>
            <a:r>
              <a:rPr b="1" lang="en-US" sz="1000" spc="-1" strike="noStrike">
                <a:solidFill>
                  <a:srgbClr val="2d0054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over 65 yrs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over 65 yr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013360"/>
            <a:ext cx="3816360" cy="122400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6280" y="519444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Short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11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Long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4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802512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29200" y="2416320"/>
            <a:ext cx="1633680" cy="1218960"/>
          </a:xfrm>
          <a:custGeom>
            <a:avLst/>
            <a:gdLst/>
            <a:ahLst/>
            <a:rect l="l" t="t" r="r" b="b"/>
            <a:pathLst>
              <a:path w="1200" h="896">
                <a:moveTo>
                  <a:pt x="1200" y="768"/>
                </a:moveTo>
                <a:cubicBezTo>
                  <a:pt x="1012" y="832"/>
                  <a:pt x="824" y="896"/>
                  <a:pt x="624" y="768"/>
                </a:cubicBezTo>
                <a:cubicBezTo>
                  <a:pt x="424" y="640"/>
                  <a:pt x="212" y="32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2612880"/>
            <a:ext cx="1109880" cy="293760"/>
          </a:xfrm>
          <a:custGeom>
            <a:avLst/>
            <a:gdLst/>
            <a:ahLst/>
            <a:rect l="l" t="t" r="r" b="b"/>
            <a:pathLst>
              <a:path w="816" h="216">
                <a:moveTo>
                  <a:pt x="0" y="144"/>
                </a:moveTo>
                <a:cubicBezTo>
                  <a:pt x="148" y="180"/>
                  <a:pt x="296" y="216"/>
                  <a:pt x="432" y="192"/>
                </a:cubicBezTo>
                <a:cubicBezTo>
                  <a:pt x="568" y="168"/>
                  <a:pt x="692" y="84"/>
                  <a:pt x="81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916280"/>
            <a:ext cx="784080" cy="369720"/>
          </a:xfrm>
          <a:custGeom>
            <a:avLst/>
            <a:gdLst/>
            <a:ahLst/>
            <a:rect l="l" t="t" r="r" b="b"/>
            <a:pathLst>
              <a:path w="576" h="272">
                <a:moveTo>
                  <a:pt x="576" y="272"/>
                </a:moveTo>
                <a:cubicBezTo>
                  <a:pt x="456" y="168"/>
                  <a:pt x="336" y="64"/>
                  <a:pt x="240" y="32"/>
                </a:cubicBezTo>
                <a:cubicBezTo>
                  <a:pt x="144" y="0"/>
                  <a:pt x="72" y="40"/>
                  <a:pt x="0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090880"/>
            <a:ext cx="1698480" cy="457200"/>
          </a:xfrm>
          <a:custGeom>
            <a:avLst/>
            <a:gdLst/>
            <a:ahLst/>
            <a:rect l="l" t="t" r="r" b="b"/>
            <a:pathLst>
              <a:path w="1248" h="336">
                <a:moveTo>
                  <a:pt x="1248" y="0"/>
                </a:moveTo>
                <a:cubicBezTo>
                  <a:pt x="1156" y="68"/>
                  <a:pt x="1064" y="136"/>
                  <a:pt x="912" y="192"/>
                </a:cubicBezTo>
                <a:cubicBezTo>
                  <a:pt x="760" y="248"/>
                  <a:pt x="488" y="336"/>
                  <a:pt x="336" y="336"/>
                </a:cubicBezTo>
                <a:cubicBezTo>
                  <a:pt x="184" y="336"/>
                  <a:pt x="92" y="264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6200" y="2416320"/>
            <a:ext cx="674640" cy="979200"/>
          </a:xfrm>
          <a:custGeom>
            <a:avLst/>
            <a:gdLst/>
            <a:ahLst/>
            <a:rect l="l" t="t" r="r" b="b"/>
            <a:pathLst>
              <a:path w="496" h="720">
                <a:moveTo>
                  <a:pt x="304" y="0"/>
                </a:moveTo>
                <a:cubicBezTo>
                  <a:pt x="256" y="40"/>
                  <a:pt x="208" y="80"/>
                  <a:pt x="160" y="144"/>
                </a:cubicBezTo>
                <a:cubicBezTo>
                  <a:pt x="112" y="208"/>
                  <a:pt x="0" y="312"/>
                  <a:pt x="16" y="384"/>
                </a:cubicBezTo>
                <a:cubicBezTo>
                  <a:pt x="32" y="456"/>
                  <a:pt x="176" y="520"/>
                  <a:pt x="256" y="576"/>
                </a:cubicBezTo>
                <a:cubicBezTo>
                  <a:pt x="336" y="632"/>
                  <a:pt x="416" y="676"/>
                  <a:pt x="496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1120" y="3395520"/>
            <a:ext cx="621000" cy="1046160"/>
          </a:xfrm>
          <a:custGeom>
            <a:avLst/>
            <a:gdLst/>
            <a:ahLst/>
            <a:rect l="l" t="t" r="r" b="b"/>
            <a:pathLst>
              <a:path w="456" h="768">
                <a:moveTo>
                  <a:pt x="0" y="0"/>
                </a:moveTo>
                <a:cubicBezTo>
                  <a:pt x="88" y="4"/>
                  <a:pt x="176" y="8"/>
                  <a:pt x="240" y="48"/>
                </a:cubicBezTo>
                <a:cubicBezTo>
                  <a:pt x="304" y="88"/>
                  <a:pt x="352" y="160"/>
                  <a:pt x="384" y="240"/>
                </a:cubicBezTo>
                <a:cubicBezTo>
                  <a:pt x="416" y="320"/>
                  <a:pt x="456" y="440"/>
                  <a:pt x="432" y="528"/>
                </a:cubicBezTo>
                <a:cubicBezTo>
                  <a:pt x="408" y="616"/>
                  <a:pt x="324" y="692"/>
                  <a:pt x="240" y="7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612880"/>
            <a:ext cx="13032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7280" y="227664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7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800" y="34624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8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18840" y="20908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9720" y="41799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0000" y="1413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67120" y="1622520"/>
            <a:ext cx="1960560" cy="598320"/>
          </a:xfrm>
          <a:custGeom>
            <a:avLst/>
            <a:gdLst/>
            <a:ahLst/>
            <a:rect l="l" t="t" r="r" b="b"/>
            <a:pathLst>
              <a:path w="1440" h="440">
                <a:moveTo>
                  <a:pt x="1440" y="440"/>
                </a:moveTo>
                <a:cubicBezTo>
                  <a:pt x="1324" y="328"/>
                  <a:pt x="1208" y="216"/>
                  <a:pt x="1104" y="152"/>
                </a:cubicBezTo>
                <a:cubicBezTo>
                  <a:pt x="1000" y="88"/>
                  <a:pt x="936" y="80"/>
                  <a:pt x="816" y="56"/>
                </a:cubicBezTo>
                <a:cubicBezTo>
                  <a:pt x="696" y="32"/>
                  <a:pt x="520" y="0"/>
                  <a:pt x="384" y="8"/>
                </a:cubicBezTo>
                <a:cubicBezTo>
                  <a:pt x="248" y="16"/>
                  <a:pt x="72" y="88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6920" y="2205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3640" y="37893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6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8320" y="2655720"/>
            <a:ext cx="609480" cy="217800"/>
          </a:xfrm>
          <a:custGeom>
            <a:avLst/>
            <a:gdLst/>
            <a:ahLst/>
            <a:rect l="l" t="t" r="r" b="b"/>
            <a:pathLst>
              <a:path w="448" h="160">
                <a:moveTo>
                  <a:pt x="48" y="16"/>
                </a:moveTo>
                <a:cubicBezTo>
                  <a:pt x="188" y="8"/>
                  <a:pt x="328" y="0"/>
                  <a:pt x="384" y="16"/>
                </a:cubicBezTo>
                <a:cubicBezTo>
                  <a:pt x="440" y="32"/>
                  <a:pt x="448" y="88"/>
                  <a:pt x="384" y="112"/>
                </a:cubicBezTo>
                <a:cubicBezTo>
                  <a:pt x="320" y="136"/>
                  <a:pt x="160" y="148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938320"/>
            <a:ext cx="206280" cy="58896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48" y="0"/>
                </a:moveTo>
                <a:cubicBezTo>
                  <a:pt x="92" y="8"/>
                  <a:pt x="136" y="16"/>
                  <a:pt x="144" y="48"/>
                </a:cubicBezTo>
                <a:cubicBezTo>
                  <a:pt x="152" y="80"/>
                  <a:pt x="120" y="128"/>
                  <a:pt x="96" y="192"/>
                </a:cubicBezTo>
                <a:cubicBezTo>
                  <a:pt x="72" y="256"/>
                  <a:pt x="36" y="344"/>
                  <a:pt x="0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70520" y="3657600"/>
            <a:ext cx="544680" cy="522360"/>
          </a:xfrm>
          <a:custGeom>
            <a:avLst/>
            <a:gdLst/>
            <a:ahLst/>
            <a:rect l="l" t="t" r="r" b="b"/>
            <a:pathLst>
              <a:path w="400" h="384">
                <a:moveTo>
                  <a:pt x="16" y="0"/>
                </a:moveTo>
                <a:cubicBezTo>
                  <a:pt x="8" y="112"/>
                  <a:pt x="0" y="224"/>
                  <a:pt x="64" y="288"/>
                </a:cubicBezTo>
                <a:cubicBezTo>
                  <a:pt x="128" y="352"/>
                  <a:pt x="264" y="368"/>
                  <a:pt x="400" y="3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38720" y="2873520"/>
            <a:ext cx="524160" cy="45720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336"/>
                </a:moveTo>
                <a:cubicBezTo>
                  <a:pt x="368" y="268"/>
                  <a:pt x="352" y="200"/>
                  <a:pt x="288" y="144"/>
                </a:cubicBezTo>
                <a:cubicBezTo>
                  <a:pt x="224" y="88"/>
                  <a:pt x="112" y="4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1160" y="25480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53120" y="2536920"/>
            <a:ext cx="1698840" cy="468360"/>
          </a:xfrm>
          <a:custGeom>
            <a:avLst/>
            <a:gdLst/>
            <a:ahLst/>
            <a:rect l="l" t="t" r="r" b="b"/>
            <a:pathLst>
              <a:path w="1248" h="344">
                <a:moveTo>
                  <a:pt x="0" y="56"/>
                </a:moveTo>
                <a:cubicBezTo>
                  <a:pt x="168" y="28"/>
                  <a:pt x="336" y="0"/>
                  <a:pt x="480" y="8"/>
                </a:cubicBezTo>
                <a:cubicBezTo>
                  <a:pt x="624" y="16"/>
                  <a:pt x="736" y="48"/>
                  <a:pt x="864" y="104"/>
                </a:cubicBezTo>
                <a:cubicBezTo>
                  <a:pt x="992" y="160"/>
                  <a:pt x="1120" y="252"/>
                  <a:pt x="1248" y="3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6000" y="1989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1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92840" y="1763640"/>
            <a:ext cx="816120" cy="914400"/>
          </a:xfrm>
          <a:custGeom>
            <a:avLst/>
            <a:gdLst/>
            <a:ahLst/>
            <a:rect l="l" t="t" r="r" b="b"/>
            <a:pathLst>
              <a:path w="600" h="672">
                <a:moveTo>
                  <a:pt x="144" y="0"/>
                </a:moveTo>
                <a:cubicBezTo>
                  <a:pt x="132" y="96"/>
                  <a:pt x="120" y="192"/>
                  <a:pt x="144" y="288"/>
                </a:cubicBezTo>
                <a:cubicBezTo>
                  <a:pt x="168" y="384"/>
                  <a:pt x="224" y="520"/>
                  <a:pt x="288" y="576"/>
                </a:cubicBezTo>
                <a:cubicBezTo>
                  <a:pt x="352" y="632"/>
                  <a:pt x="480" y="672"/>
                  <a:pt x="528" y="624"/>
                </a:cubicBezTo>
                <a:cubicBezTo>
                  <a:pt x="576" y="576"/>
                  <a:pt x="600" y="368"/>
                  <a:pt x="576" y="288"/>
                </a:cubicBezTo>
                <a:cubicBezTo>
                  <a:pt x="552" y="208"/>
                  <a:pt x="480" y="176"/>
                  <a:pt x="384" y="144"/>
                </a:cubicBezTo>
                <a:cubicBezTo>
                  <a:pt x="288" y="112"/>
                  <a:pt x="112" y="104"/>
                  <a:pt x="0" y="96"/>
                </a:cubicBezTo>
              </a:path>
            </a:pathLst>
          </a:custGeom>
          <a:noFill/>
          <a:ln w="25560">
            <a:solidFill>
              <a:srgbClr val="f37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680" y="6289560"/>
            <a:ext cx="35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C.W. Potter, Textbook of Influenza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eographic Spread: 1968-69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d0054"/>
                </a:solidFill>
                <a:latin typeface="Arial"/>
              </a:rPr>
              <a:t>Pandemic Influenza</a:t>
            </a:r>
            <a:endParaRPr b="0" lang="en-US" sz="32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0480" y="1309680"/>
            <a:ext cx="8538840" cy="4821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ree pandemics during 20</a:t>
            </a:r>
            <a:r>
              <a:rPr b="1" lang="en-GB" sz="2400" spc="-1" strike="noStrike" baseline="30000">
                <a:solidFill>
                  <a:srgbClr val="2d0054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Century (1918, 1957, 1968)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20 million deaths worldwide in 1918-19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fferent data 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urrent and real thre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920" y="3946680"/>
            <a:ext cx="8697240" cy="1744920"/>
            <a:chOff x="295920" y="3946680"/>
            <a:chExt cx="8697240" cy="174492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301920" y="422712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270480" y="4227120"/>
              <a:ext cx="251964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92040" y="423036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1876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57/8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86600" y="5384520"/>
              <a:ext cx="28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68/9: GP consult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592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18/9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35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57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553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6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40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1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0520" y="2430360"/>
            <a:ext cx="1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457200" indent="-45720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Global spread is rapid –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prepare now, or risk being caught by surpris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2.  Possible several epidemic waves; first may be ‘milder’ than subsequent ones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ility and resilience will be key issues</a:t>
            </a:r>
            <a:r>
              <a:rPr b="1" lang="en-GB" sz="2800" spc="-1" strike="noStrike">
                <a:solidFill>
                  <a:srgbClr val="2d0054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3.  A pandemic virus is new to man, virtually no one has immunity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e virus causes more severe disease in more people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 – key events to dat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4 April 09 - Mexico City under Swine Flu epidemic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6 April 09 -New Zealand college students return from Mexico with Flu-like symptom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7 April 09 - New York confirms eight cases of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 April 09 – WHO - Level 5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9 April 09 - Swine Flu reaches Germany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May 09 - UK – Pupil at Downend School, South Gloucestershire, confirmed as having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acted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May 09 - UK – Alleyn’s School, London, closes after Swine Flu outbrea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 May 09 - UK – The post office distribute Swine Flu leaflets to houses in the U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8 May 09 - First New York city Swine flu victim die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 June 09 - WHO – declares Pandemic Level 6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June 09 - First death outside America linked to Swine Flu (woman dies in Paisley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 July 09 – UK Government moves from ‘containment’ to ‘ treatment’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4:30:09Z</dcterms:created>
  <dc:creator>cbrown</dc:creator>
  <dc:description>Office XP
build by www.mediasterling.com</dc:description>
  <dc:language>en-US</dc:language>
  <cp:lastModifiedBy>DH User</cp:lastModifiedBy>
  <dcterms:modified xsi:type="dcterms:W3CDTF">2009-08-06T14:33:42Z</dcterms:modified>
  <cp:revision>282</cp:revision>
  <dc:subject/>
  <dc:title>Title of presentation</dc:title>
</cp:coreProperties>
</file>