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9D5-AD24-4B10-A268-64032DAD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C9F-05C7-4904-AC90-556E7211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6B4-F01F-4BEE-B8FA-FD23BFC8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0056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912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164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0056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6912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4A6-2A3B-4250-BD6F-42CE762A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1640" y="2158920"/>
            <a:ext cx="6118560" cy="3054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D20-3C97-4EB9-AA55-D7EF660F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0056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912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164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50056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6912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C44-FF42-40D9-84D8-F7227C3C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A72-81A6-484A-B2AF-A3BC9E5A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613-757D-4314-B6E4-F79936A5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31640" y="2158920"/>
            <a:ext cx="6118560" cy="3054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815-757B-48F5-A213-EC51F285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2F4-514C-4D74-BE16-9F9CB8F7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420-A276-4BBE-8EFA-6BADC33B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486-D3EA-42AB-AC26-6A576C8F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476440" y="266760"/>
            <a:ext cx="6667560" cy="6591240"/>
            <a:chOff x="2476440" y="266760"/>
            <a:chExt cx="6667560" cy="65912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2476440" y="4213080"/>
              <a:ext cx="6667560" cy="26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461360" y="266760"/>
              <a:ext cx="130788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0054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1" marL="144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2" marL="285840" indent="-2826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3" marL="517680" indent="-2304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4" marL="755640" indent="-23652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5" marL="755640" indent="-23652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6" marL="755640" indent="-23652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912B-0FE1-4935-A8C4-DEFD620CD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7275600" y="1895400"/>
              <a:ext cx="1417680" cy="11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20e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2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87280" algn="ctr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191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19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19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h.gov.uk/PolicyAndGuidance/HealthAndSocialCareTopics/Flu/fs/en" TargetMode="External"/><Relationship Id="rId2" Type="http://schemas.openxmlformats.org/officeDocument/2006/relationships/hyperlink" Target="http://www.hpa.org.uk/infections/topics_az/influenza/flu.htm" TargetMode="External"/><Relationship Id="rId3" Type="http://schemas.openxmlformats.org/officeDocument/2006/relationships/hyperlink" Target="http://www.hpa.org.uk/infections/topics_az/influenza/flu.htm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284640"/>
            <a:ext cx="6193080" cy="129672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20e"/>
                </a:solidFill>
                <a:latin typeface="Arial"/>
              </a:rPr>
              <a:t>Exercise Cold Play II </a:t>
            </a:r>
            <a:br>
              <a:rPr sz="2800"/>
            </a:br>
            <a:r>
              <a:rPr b="1" lang="en-GB" sz="2800" spc="-1" strike="noStrike">
                <a:solidFill>
                  <a:srgbClr val="ffc20e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5037120"/>
            <a:ext cx="4645080" cy="912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Host 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31640" y="5037120"/>
            <a:ext cx="4645080" cy="912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Exercise Format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Four ‘blocks’ of time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0 – between w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6 – First cases – 2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11 -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21 - Re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Each block represents a single day in the pandemic cycle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Each block will bring out specific topics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oadly they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cc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ti vir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ffing and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Contin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Key Planning Assumptions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The exercise has been developed using the Department of Health’s planning assumption (July 2009) of: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a 30% clinical attack rate and a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case-fatality rate of  up to 0.35%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Guidance Available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1280" y="119700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 fontScale="86000"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Department of Health Pandemic Influenza Pla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37120"/>
                </a:solidFill>
                <a:latin typeface="Arial"/>
              </a:rPr>
              <a:t>http://www.dh.gov.uk/PolicyAndGuidance/EmergencyPlanning/PandemicFlu/fs/e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Flu key documents and resources for patients and health professionals 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37120"/>
                </a:solidFill>
                <a:uFillTx/>
                <a:latin typeface="Arial"/>
                <a:hlinkClick r:id="rId1"/>
              </a:rPr>
              <a:t>http://www.dh.gov.uk/PolicyAndGuidance/HealthAndSocialCareTopics/Flu/fs/e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0054"/>
                </a:solidFill>
                <a:latin typeface="Arial"/>
              </a:rPr>
              <a:t>Department of Health Emergency Preparedness 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Beyond a Major Incident – planning for potentially large numbers of casualties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http://www.dh.gov.uk/PolicyAndGuidance/EmergencyPlanning/fs/e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The Health Protection Agency: 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37120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GB" sz="1400" spc="-1" strike="noStrike" u="sng">
                <a:solidFill>
                  <a:srgbClr val="f37120"/>
                </a:solidFill>
                <a:uFillTx/>
                <a:latin typeface="Arial"/>
                <a:hlinkClick r:id="rId3"/>
              </a:rPr>
              <a:t>www.hpa.org.uk/infections/topics_az/influenza/flu.htm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NICE (National Institute for Health and Clinical Excellence)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http://www.nice.org.uk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The WHO Influenza Pandemic Influenza Preparedness and Response Guidance document is available at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37120"/>
                </a:solidFill>
                <a:latin typeface="Arial"/>
              </a:rPr>
              <a:t>http://www.who.int/csr/disease/influenza/PIPGuidance09.pdf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31640" y="5037120"/>
            <a:ext cx="4645080" cy="912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One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One – Reviewing and Preparing for the Winter Flu Season – 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Plans and Planning Proces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oles &amp; Responsibiliti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Data Gathering, Surveillance &amp; Reporting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Co-ordination of Media &amp; Public Communication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Antiviral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Two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Two – Initial response to second wave </a:t>
            </a:r>
            <a:br>
              <a:rPr sz="2600"/>
            </a:b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Distribution of antiviral treatment and health advice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Vaccination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Use of Personal Protective Equipment (PPE) and infection control guidance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What measures are you planning locally?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esilience of the emergency servi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Social distancing measures/Schools/Travel advice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Three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Core Statement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2d0054"/>
                </a:solidFill>
                <a:latin typeface="Arial"/>
              </a:rPr>
              <a:t>‘</a:t>
            </a:r>
            <a:r>
              <a:rPr b="1" i="1" lang="en-GB" sz="2400" spc="-1" strike="noStrike">
                <a:solidFill>
                  <a:srgbClr val="2d0054"/>
                </a:solidFill>
                <a:latin typeface="Arial"/>
              </a:rPr>
              <a:t>'We don't know enough about this virus to draw any conclusions about its severity,' he said. 'At this stage I think it would be premature to conclude that this is a mild infection.'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6068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2d0054"/>
                </a:solidFill>
                <a:latin typeface="Arial"/>
              </a:rPr>
              <a:t>Sir Liam Donald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2d0054"/>
                </a:solidFill>
                <a:latin typeface="Arial"/>
              </a:rPr>
              <a:t>Chief Medical Officer, May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702000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Three – Business Continuity at the peak </a:t>
            </a:r>
            <a:br>
              <a:rPr sz="2600"/>
            </a:b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esilience arrangement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Staff Shortages/Resour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Business Continuity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Management of death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Antiviral distribution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Four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Four - Recovery</a:t>
            </a:r>
            <a:br>
              <a:rPr sz="2600"/>
            </a:b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ecovery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Voluntary servi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Bereavement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Lessons learned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284640"/>
            <a:ext cx="6193080" cy="129672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20e"/>
                </a:solidFill>
                <a:latin typeface="Arial"/>
              </a:rPr>
              <a:t>Exercise Cold Play II</a:t>
            </a:r>
            <a:br>
              <a:rPr sz="2800"/>
            </a:br>
            <a:endParaRPr b="0" lang="en-US" sz="28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Aims &amp; Objectives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review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the spring/summer H1N1v pandemic flu wave and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prepare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for a more serious second wave during this winter flu season.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6200000">
            <a:off x="4786920" y="1340280"/>
            <a:ext cx="3745080" cy="4032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4032360"/>
              <a:gd name="textAreaBottom" fmla="*/ 3849840 h 4032360"/>
            </a:gdLst>
            <a:ahLst/>
            <a:rect l="textAreaLeft" t="textAreaTop" r="textAreaRight" b="textAreaBottom"/>
            <a:pathLst>
              <a:path w="21600" h="23257">
                <a:moveTo>
                  <a:pt x="3600" y="0"/>
                </a:moveTo>
                <a:arcTo wR="3600" hR="3600" stAng="16200000" swAng="-5400000"/>
                <a:lnTo>
                  <a:pt x="0" y="19657"/>
                </a:lnTo>
                <a:arcTo wR="3600" hR="3600" stAng="10800000" swAng="-5400000"/>
                <a:lnTo>
                  <a:pt x="18000" y="232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20e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539640" y="1267920"/>
            <a:ext cx="3745080" cy="417672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4176720"/>
              <a:gd name="textAreaBottom" fmla="*/ 3994200 h 4176720"/>
            </a:gdLst>
            <a:ahLst/>
            <a:rect l="textAreaLeft" t="textAreaTop" r="textAreaRight" b="textAreaBottom"/>
            <a:pathLst>
              <a:path w="21600" h="24089">
                <a:moveTo>
                  <a:pt x="3600" y="0"/>
                </a:moveTo>
                <a:arcTo wR="3600" hR="3600" stAng="16200000" swAng="-5400000"/>
                <a:lnTo>
                  <a:pt x="0" y="20489"/>
                </a:lnTo>
                <a:arcTo wR="3600" hR="3600" stAng="10800000" swAng="-5400000"/>
                <a:lnTo>
                  <a:pt x="18000" y="240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20e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Seasonal 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  <a:ea typeface="Arial"/>
              </a:rPr>
              <a:t>’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flu vs Pandemic 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  <a:ea typeface="Arial"/>
              </a:rPr>
              <a:t>’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flu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1280" y="1484280"/>
            <a:ext cx="407700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0054"/>
                </a:solidFill>
                <a:latin typeface="Arial"/>
              </a:rPr>
              <a:t>SEASONAL FLU</a:t>
            </a:r>
            <a:endParaRPr b="1" lang="en-US" sz="20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Occurs every year during the winter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ffects up to 10% of the population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The very young, the very old and people with certain chronic illness are most at risk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nnual vaccination available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ntiviral drugs available for the at risk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484280"/>
            <a:ext cx="407844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0054"/>
                </a:solidFill>
                <a:latin typeface="Arial"/>
              </a:rPr>
              <a:t>PANDEMIC FLU</a:t>
            </a:r>
            <a:endParaRPr b="1" lang="en-US" sz="20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Occurs about 3 times each century – at any time of the year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May affect up to 30% of the population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People of every age may be at risk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Vaccine won’t be available initially - in the first wave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ntiviral drugs are likely to be in limited supply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005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6440" y="1341360"/>
            <a:ext cx="8856720" cy="3311640"/>
          </a:xfrm>
          <a:prstGeom prst="roundRect">
            <a:avLst>
              <a:gd name="adj" fmla="val 16667"/>
            </a:avLst>
          </a:prstGeom>
          <a:solidFill>
            <a:srgbClr val="ffc20e">
              <a:alpha val="59000"/>
            </a:srgbClr>
          </a:solidFill>
          <a:ln w="9360">
            <a:solidFill>
              <a:srgbClr val="2d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Previous 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  <a:ea typeface="Arial"/>
              </a:rPr>
              <a:t>’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flu Pandemics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2640" y="134136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Pandemic         Spanish Flu            Asian Flu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     Hong Kong Flu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          Swine Flu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Strain: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A(H1N1)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A(H2H2)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A(H3N2)                       A(H1N1)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Year: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1918-1919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1957-1958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1968-1969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2009 - ?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Origin: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Not known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China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China                           Mexico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Estimated Deaths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Global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20-40 million            1million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1-4 million                         ?   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UK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250,000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33,000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30,000                                ?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Age Group     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20-50 yrs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under 14 yrs     under 5 yrs       </a:t>
            </a:r>
            <a:r>
              <a:rPr b="1" lang="en-US" sz="1000" spc="-1" strike="noStrike">
                <a:solidFill>
                  <a:srgbClr val="2d0054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               ?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over 65 yrs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     over 65 yrs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013360"/>
            <a:ext cx="3816360" cy="1224000"/>
          </a:xfrm>
          <a:prstGeom prst="roundRect">
            <a:avLst>
              <a:gd name="adj" fmla="val 16667"/>
            </a:avLst>
          </a:prstGeom>
          <a:solidFill>
            <a:srgbClr val="ffc20e">
              <a:alpha val="59000"/>
            </a:srgbClr>
          </a:solidFill>
          <a:ln w="9360">
            <a:solidFill>
              <a:srgbClr val="2d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6280" y="519444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7120"/>
                </a:solidFill>
                <a:latin typeface="Arial Narrow"/>
              </a:rPr>
              <a:t>Shortest interval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 Narrow"/>
              </a:rPr>
              <a:t>= 11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7120"/>
                </a:solidFill>
                <a:latin typeface="Arial Narrow"/>
              </a:rPr>
              <a:t>Longest interval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 Narrow"/>
              </a:rPr>
              <a:t>= 4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8025120" cy="5143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029200" y="2416320"/>
            <a:ext cx="1633680" cy="1218960"/>
          </a:xfrm>
          <a:custGeom>
            <a:avLst/>
            <a:gdLst/>
            <a:ahLst/>
            <a:rect l="l" t="t" r="r" b="b"/>
            <a:pathLst>
              <a:path w="1200" h="896">
                <a:moveTo>
                  <a:pt x="1200" y="768"/>
                </a:moveTo>
                <a:cubicBezTo>
                  <a:pt x="1012" y="832"/>
                  <a:pt x="824" y="896"/>
                  <a:pt x="624" y="768"/>
                </a:cubicBezTo>
                <a:cubicBezTo>
                  <a:pt x="424" y="640"/>
                  <a:pt x="212" y="32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6880" y="2612880"/>
            <a:ext cx="1109880" cy="293760"/>
          </a:xfrm>
          <a:custGeom>
            <a:avLst/>
            <a:gdLst/>
            <a:ahLst/>
            <a:rect l="l" t="t" r="r" b="b"/>
            <a:pathLst>
              <a:path w="816" h="216">
                <a:moveTo>
                  <a:pt x="0" y="144"/>
                </a:moveTo>
                <a:cubicBezTo>
                  <a:pt x="148" y="180"/>
                  <a:pt x="296" y="216"/>
                  <a:pt x="432" y="192"/>
                </a:cubicBezTo>
                <a:cubicBezTo>
                  <a:pt x="568" y="168"/>
                  <a:pt x="692" y="84"/>
                  <a:pt x="81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916280"/>
            <a:ext cx="784080" cy="369720"/>
          </a:xfrm>
          <a:custGeom>
            <a:avLst/>
            <a:gdLst/>
            <a:ahLst/>
            <a:rect l="l" t="t" r="r" b="b"/>
            <a:pathLst>
              <a:path w="576" h="272">
                <a:moveTo>
                  <a:pt x="576" y="272"/>
                </a:moveTo>
                <a:cubicBezTo>
                  <a:pt x="456" y="168"/>
                  <a:pt x="336" y="64"/>
                  <a:pt x="240" y="32"/>
                </a:cubicBezTo>
                <a:cubicBezTo>
                  <a:pt x="144" y="0"/>
                  <a:pt x="72" y="40"/>
                  <a:pt x="0" y="8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090880"/>
            <a:ext cx="1698480" cy="457200"/>
          </a:xfrm>
          <a:custGeom>
            <a:avLst/>
            <a:gdLst/>
            <a:ahLst/>
            <a:rect l="l" t="t" r="r" b="b"/>
            <a:pathLst>
              <a:path w="1248" h="336">
                <a:moveTo>
                  <a:pt x="1248" y="0"/>
                </a:moveTo>
                <a:cubicBezTo>
                  <a:pt x="1156" y="68"/>
                  <a:pt x="1064" y="136"/>
                  <a:pt x="912" y="192"/>
                </a:cubicBezTo>
                <a:cubicBezTo>
                  <a:pt x="760" y="248"/>
                  <a:pt x="488" y="336"/>
                  <a:pt x="336" y="336"/>
                </a:cubicBezTo>
                <a:cubicBezTo>
                  <a:pt x="184" y="336"/>
                  <a:pt x="92" y="264"/>
                  <a:pt x="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46200" y="2416320"/>
            <a:ext cx="674640" cy="979200"/>
          </a:xfrm>
          <a:custGeom>
            <a:avLst/>
            <a:gdLst/>
            <a:ahLst/>
            <a:rect l="l" t="t" r="r" b="b"/>
            <a:pathLst>
              <a:path w="496" h="720">
                <a:moveTo>
                  <a:pt x="304" y="0"/>
                </a:moveTo>
                <a:cubicBezTo>
                  <a:pt x="256" y="40"/>
                  <a:pt x="208" y="80"/>
                  <a:pt x="160" y="144"/>
                </a:cubicBezTo>
                <a:cubicBezTo>
                  <a:pt x="112" y="208"/>
                  <a:pt x="0" y="312"/>
                  <a:pt x="16" y="384"/>
                </a:cubicBezTo>
                <a:cubicBezTo>
                  <a:pt x="32" y="456"/>
                  <a:pt x="176" y="520"/>
                  <a:pt x="256" y="576"/>
                </a:cubicBezTo>
                <a:cubicBezTo>
                  <a:pt x="336" y="632"/>
                  <a:pt x="416" y="676"/>
                  <a:pt x="496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1120" y="3395520"/>
            <a:ext cx="621000" cy="1046160"/>
          </a:xfrm>
          <a:custGeom>
            <a:avLst/>
            <a:gdLst/>
            <a:ahLst/>
            <a:rect l="l" t="t" r="r" b="b"/>
            <a:pathLst>
              <a:path w="456" h="768">
                <a:moveTo>
                  <a:pt x="0" y="0"/>
                </a:moveTo>
                <a:cubicBezTo>
                  <a:pt x="88" y="4"/>
                  <a:pt x="176" y="8"/>
                  <a:pt x="240" y="48"/>
                </a:cubicBezTo>
                <a:cubicBezTo>
                  <a:pt x="304" y="88"/>
                  <a:pt x="352" y="160"/>
                  <a:pt x="384" y="240"/>
                </a:cubicBezTo>
                <a:cubicBezTo>
                  <a:pt x="416" y="320"/>
                  <a:pt x="456" y="440"/>
                  <a:pt x="432" y="528"/>
                </a:cubicBezTo>
                <a:cubicBezTo>
                  <a:pt x="408" y="616"/>
                  <a:pt x="324" y="692"/>
                  <a:pt x="240" y="7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2612880"/>
            <a:ext cx="13032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17280" y="227664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7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800" y="346248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8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18840" y="209088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9720" y="417996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30000" y="141300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67120" y="1622520"/>
            <a:ext cx="1960560" cy="598320"/>
          </a:xfrm>
          <a:custGeom>
            <a:avLst/>
            <a:gdLst/>
            <a:ahLst/>
            <a:rect l="l" t="t" r="r" b="b"/>
            <a:pathLst>
              <a:path w="1440" h="440">
                <a:moveTo>
                  <a:pt x="1440" y="440"/>
                </a:moveTo>
                <a:cubicBezTo>
                  <a:pt x="1324" y="328"/>
                  <a:pt x="1208" y="216"/>
                  <a:pt x="1104" y="152"/>
                </a:cubicBezTo>
                <a:cubicBezTo>
                  <a:pt x="1000" y="88"/>
                  <a:pt x="936" y="80"/>
                  <a:pt x="816" y="56"/>
                </a:cubicBezTo>
                <a:cubicBezTo>
                  <a:pt x="696" y="32"/>
                  <a:pt x="520" y="0"/>
                  <a:pt x="384" y="8"/>
                </a:cubicBezTo>
                <a:cubicBezTo>
                  <a:pt x="248" y="16"/>
                  <a:pt x="72" y="88"/>
                  <a:pt x="0" y="1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76920" y="220500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13640" y="378936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6/6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88320" y="2655720"/>
            <a:ext cx="609480" cy="217800"/>
          </a:xfrm>
          <a:custGeom>
            <a:avLst/>
            <a:gdLst/>
            <a:ahLst/>
            <a:rect l="l" t="t" r="r" b="b"/>
            <a:pathLst>
              <a:path w="448" h="160">
                <a:moveTo>
                  <a:pt x="48" y="16"/>
                </a:moveTo>
                <a:cubicBezTo>
                  <a:pt x="188" y="8"/>
                  <a:pt x="328" y="0"/>
                  <a:pt x="384" y="16"/>
                </a:cubicBezTo>
                <a:cubicBezTo>
                  <a:pt x="440" y="32"/>
                  <a:pt x="448" y="88"/>
                  <a:pt x="384" y="112"/>
                </a:cubicBezTo>
                <a:cubicBezTo>
                  <a:pt x="320" y="136"/>
                  <a:pt x="160" y="148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2938320"/>
            <a:ext cx="206280" cy="58896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48" y="0"/>
                </a:moveTo>
                <a:cubicBezTo>
                  <a:pt x="92" y="8"/>
                  <a:pt x="136" y="16"/>
                  <a:pt x="144" y="48"/>
                </a:cubicBezTo>
                <a:cubicBezTo>
                  <a:pt x="152" y="80"/>
                  <a:pt x="120" y="128"/>
                  <a:pt x="96" y="192"/>
                </a:cubicBezTo>
                <a:cubicBezTo>
                  <a:pt x="72" y="256"/>
                  <a:pt x="36" y="344"/>
                  <a:pt x="0" y="4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70520" y="3657600"/>
            <a:ext cx="544680" cy="522360"/>
          </a:xfrm>
          <a:custGeom>
            <a:avLst/>
            <a:gdLst/>
            <a:ahLst/>
            <a:rect l="l" t="t" r="r" b="b"/>
            <a:pathLst>
              <a:path w="400" h="384">
                <a:moveTo>
                  <a:pt x="16" y="0"/>
                </a:moveTo>
                <a:cubicBezTo>
                  <a:pt x="8" y="112"/>
                  <a:pt x="0" y="224"/>
                  <a:pt x="64" y="288"/>
                </a:cubicBezTo>
                <a:cubicBezTo>
                  <a:pt x="128" y="352"/>
                  <a:pt x="264" y="368"/>
                  <a:pt x="400" y="38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38720" y="2873520"/>
            <a:ext cx="524160" cy="45720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384" y="336"/>
                </a:moveTo>
                <a:cubicBezTo>
                  <a:pt x="368" y="268"/>
                  <a:pt x="352" y="200"/>
                  <a:pt x="288" y="144"/>
                </a:cubicBezTo>
                <a:cubicBezTo>
                  <a:pt x="224" y="88"/>
                  <a:pt x="112" y="4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71160" y="254808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53120" y="2536920"/>
            <a:ext cx="1698840" cy="468360"/>
          </a:xfrm>
          <a:custGeom>
            <a:avLst/>
            <a:gdLst/>
            <a:ahLst/>
            <a:rect l="l" t="t" r="r" b="b"/>
            <a:pathLst>
              <a:path w="1248" h="344">
                <a:moveTo>
                  <a:pt x="0" y="56"/>
                </a:moveTo>
                <a:cubicBezTo>
                  <a:pt x="168" y="28"/>
                  <a:pt x="336" y="0"/>
                  <a:pt x="480" y="8"/>
                </a:cubicBezTo>
                <a:cubicBezTo>
                  <a:pt x="624" y="16"/>
                  <a:pt x="736" y="48"/>
                  <a:pt x="864" y="104"/>
                </a:cubicBezTo>
                <a:cubicBezTo>
                  <a:pt x="992" y="160"/>
                  <a:pt x="1120" y="252"/>
                  <a:pt x="1248" y="3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86000" y="198900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1/6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92840" y="1763640"/>
            <a:ext cx="816120" cy="914400"/>
          </a:xfrm>
          <a:custGeom>
            <a:avLst/>
            <a:gdLst/>
            <a:ahLst/>
            <a:rect l="l" t="t" r="r" b="b"/>
            <a:pathLst>
              <a:path w="600" h="672">
                <a:moveTo>
                  <a:pt x="144" y="0"/>
                </a:moveTo>
                <a:cubicBezTo>
                  <a:pt x="132" y="96"/>
                  <a:pt x="120" y="192"/>
                  <a:pt x="144" y="288"/>
                </a:cubicBezTo>
                <a:cubicBezTo>
                  <a:pt x="168" y="384"/>
                  <a:pt x="224" y="520"/>
                  <a:pt x="288" y="576"/>
                </a:cubicBezTo>
                <a:cubicBezTo>
                  <a:pt x="352" y="632"/>
                  <a:pt x="480" y="672"/>
                  <a:pt x="528" y="624"/>
                </a:cubicBezTo>
                <a:cubicBezTo>
                  <a:pt x="576" y="576"/>
                  <a:pt x="600" y="368"/>
                  <a:pt x="576" y="288"/>
                </a:cubicBezTo>
                <a:cubicBezTo>
                  <a:pt x="552" y="208"/>
                  <a:pt x="480" y="176"/>
                  <a:pt x="384" y="144"/>
                </a:cubicBezTo>
                <a:cubicBezTo>
                  <a:pt x="288" y="112"/>
                  <a:pt x="112" y="104"/>
                  <a:pt x="0" y="96"/>
                </a:cubicBezTo>
              </a:path>
            </a:pathLst>
          </a:custGeom>
          <a:noFill/>
          <a:ln w="25560">
            <a:solidFill>
              <a:srgbClr val="f371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7680" y="6289560"/>
            <a:ext cx="354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C.W. Potter, Textbook of Influenza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Geographic Spread: 1968-69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d0054"/>
                </a:solidFill>
                <a:latin typeface="Arial"/>
              </a:rPr>
              <a:t>Pandemic Influenza</a:t>
            </a:r>
            <a:endParaRPr b="0" lang="en-US" sz="32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0480" y="1309680"/>
            <a:ext cx="8538840" cy="4821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Three pandemics during 20</a:t>
            </a:r>
            <a:r>
              <a:rPr b="1" lang="en-GB" sz="2400" spc="-1" strike="noStrike" baseline="30000">
                <a:solidFill>
                  <a:srgbClr val="2d0054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Century (1918, 1957, 1968)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20 million deaths worldwide in 1918-19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Different data sour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Current and real threat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95920" y="3946680"/>
            <a:ext cx="8697240" cy="1744920"/>
            <a:chOff x="295920" y="3946680"/>
            <a:chExt cx="8697240" cy="174492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301920" y="4227120"/>
              <a:ext cx="251928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6270480" y="4227120"/>
              <a:ext cx="251964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392040" y="4230360"/>
              <a:ext cx="2519280" cy="12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218760" y="5384520"/>
              <a:ext cx="27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957/8: Flu Deaths Eng. and W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86600" y="5384520"/>
              <a:ext cx="28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968/9: GP consults Eng. and W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5920" y="5384520"/>
              <a:ext cx="27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918/9: Flu Deaths Eng. and W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3560" y="394668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957 Pande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55360" y="394668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968 Pande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7400" y="394668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918 Pande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90520" y="2430360"/>
            <a:ext cx="1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This pandemic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457200" indent="-45720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0054"/>
                </a:solidFill>
                <a:latin typeface="Arial"/>
              </a:rPr>
              <a:t>Global spread is rapid –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must prepare now, or risk being caught by surprise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0054"/>
                </a:solidFill>
                <a:latin typeface="Arial"/>
              </a:rPr>
              <a:t>2.  Possible several epidemic waves; first may be ‘milder’ than subsequent ones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ility and resilience will be key issues</a:t>
            </a:r>
            <a:r>
              <a:rPr b="1" lang="en-GB" sz="2800" spc="-1" strike="noStrike">
                <a:solidFill>
                  <a:srgbClr val="2d0054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2d0054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0054"/>
                </a:solidFill>
                <a:latin typeface="Arial"/>
              </a:rPr>
              <a:t>3.  A pandemic virus is new to man, virtually no one has immunity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e virus causes more severe disease in more people.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This pandemic – key events to date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1280" y="1484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4 April 09 - Mexico City under Swine Flu epidemic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6 April 09 -New Zealand college students return from Mexico with Flu-like symptoms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7 April 09 - New York confirms eight cases of Swine Flu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9 April 09 – WHO - Level 5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9 April 09 - Swine Flu reaches Germany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May 09 - UK – Pupil at Downend School, South Gloucestershire, confirmed as having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acted Swine Flu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May 09 - UK – Alleyn’s School, London, closes after Swine Flu outbreak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 May 09 - UK – The post office distribute Swine Flu leaflets to houses in the UK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8 May 09 - First New York city Swine flu victim dies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 June 09 - WHO – declares Pandemic Level 6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 June 09 - First death outside America linked to Swine Flu (woman dies in Paisley)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 July 09 – UK Government moves from ‘containment’ to ‘ treatment’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4:30:09Z</dcterms:created>
  <dc:creator>cbrown</dc:creator>
  <dc:description>Office XP
build by www.mediasterling.com</dc:description>
  <dc:language>en-US</dc:language>
  <cp:lastModifiedBy>DH User</cp:lastModifiedBy>
  <dcterms:modified xsi:type="dcterms:W3CDTF">2009-08-06T14:33:42Z</dcterms:modified>
  <cp:revision>282</cp:revision>
  <dc:subject/>
  <dc:title>Title of presentation</dc:title>
</cp:coreProperties>
</file>