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27.wmf" ContentType="image/x-wmf"/>
  <Override PartName="/ppt/media/image16.png" ContentType="image/png"/>
  <Override PartName="/ppt/media/image26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E3DE-7E27-425A-8314-07529A62B7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9683F-9CA3-433A-90C0-3BB15FB6E2D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9720-878C-4A06-BA33-8C81C5851DC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08108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A261-50C5-41C4-BBEC-E3F9FE51389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RE TO TRANSFORMING CARE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CBCE-5023-497C-80D3-F84228F348F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07964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Abdominal Hystr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une 201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/ May 2011: ER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ost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inimal invasive surgery (robotics)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ROV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imary Hip Replac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c 2010: Patient education group and post op follow u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– Current: Sustainability is an issue relating to integrated Multidisciplinary 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: Reduced variation since starting ERP suggesting that majority of the patients are following the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Col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: Ongoing issues with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CQUINS started refocussing E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oth improvement areas there will be an improvement pl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CA12-FEA0-4D50-97EB-48FD6755110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07964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2E9-2351-40A3-99B0-62A20F63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D57-165A-4D1F-8B6E-0D691E25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1A7-E6DB-4309-B842-8EEE6144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9D7-9266-42D0-AEA1-74F12CD3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B0F-B3B7-4051-B83F-C2C196B7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4DD-CACF-4903-A10A-13C5E261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AE4-CC2A-48E2-AF1E-F979338F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B57-0489-4B92-9A96-2B56B86B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D67-33E3-4739-800E-3D543B88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5B0-8C54-4F2B-8454-32A0EF51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0BB9-A8CE-4A1B-BBD1-F603CEB3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02D-C754-41F4-8968-A4737C87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A9BC-8567-46C2-9D7F-FFDCC5B1C1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sight/departments/Projects/QEP/Pages/home.aspx" TargetMode="External"/><Relationship Id="rId3" Type="http://schemas.openxmlformats.org/officeDocument/2006/relationships/hyperlink" Target="http://insight/departments/Projects/QEP/Pages/home.aspx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hys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1779480" y="1774800"/>
          <a:ext cx="5585040" cy="41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9480" y="1774800"/>
                    <a:ext cx="55850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nical evidence compell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2"/>
          <a:stretch/>
        </p:blipFill>
        <p:spPr>
          <a:xfrm>
            <a:off x="720720" y="1600200"/>
            <a:ext cx="35100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Picture 10" descr=""/>
          <p:cNvPicPr/>
          <p:nvPr/>
        </p:nvPicPr>
        <p:blipFill>
          <a:blip r:embed="rId3"/>
          <a:stretch/>
        </p:blipFill>
        <p:spPr>
          <a:xfrm>
            <a:off x="4910040" y="1600200"/>
            <a:ext cx="351324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orectal Surgery: Length of stay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rge Intestine: Major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685800" y="180504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0504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Benefits being realised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Diagram 3" descr=""/>
          <p:cNvPicPr/>
          <p:nvPr/>
        </p:nvPicPr>
        <p:blipFill>
          <a:blip r:embed="rId2"/>
          <a:stretch/>
        </p:blipFill>
        <p:spPr>
          <a:xfrm>
            <a:off x="2482920" y="1701720"/>
            <a:ext cx="4176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-Disciplinary Tea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ive patients a better overall experience through higher quality care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roduces innovative best practices that empower and motivat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ccelerates the clinical decision-making process by empowering MD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n’t increase MDT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sures the most-efficient use of healthca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it mean for provide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safety and involvement and meets Care Quality Commis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job satisfaction of Multi-disciplinary Teams through better ways of working and improved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rocess &amp; capacity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Trad and ER Pathway.bmp"/>
          <p:cNvPicPr/>
          <p:nvPr/>
        </p:nvPicPr>
        <p:blipFill>
          <a:blip r:embed="rId2"/>
          <a:srcRect l="1775" t="1392" r="1775" b="1801"/>
          <a:stretch/>
        </p:blipFill>
        <p:spPr>
          <a:xfrm>
            <a:off x="971640" y="1663560"/>
            <a:ext cx="72007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issio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hanc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s patients recover sooner from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experiences through increased partnership and empowerme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No decision about me without me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tivates medical teams through best practice, empowerment and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rcRect l="21208" t="18512" r="24903" b="13585"/>
          <a:stretch/>
        </p:blipFill>
        <p:spPr>
          <a:xfrm>
            <a:off x="2154240" y="603360"/>
            <a:ext cx="5659560" cy="5192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 flipV="1" rot="10800000">
            <a:off x="2566800" y="-18720"/>
            <a:ext cx="457812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Verdana"/>
                <a:ea typeface="Arial"/>
              </a:rPr>
              <a:t>Trusts with varying experience of enhanced recovery pathw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807160" y="754200"/>
            <a:ext cx="2760480" cy="22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140600" y="136440"/>
            <a:ext cx="1905120" cy="1145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North Ea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ateshead NHS Foundation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ewcastle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ity Hospitals Sunderland NHS Foundation Trust 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Northumbira NHS Trust (</a:t>
            </a:r>
            <a:r>
              <a:rPr b="0" lang="en-GB" sz="700" spc="-1" strike="noStrike">
                <a:solidFill>
                  <a:srgbClr val="006600"/>
                </a:solidFill>
                <a:latin typeface="Verdana"/>
                <a:ea typeface="Arial"/>
              </a:rPr>
              <a:t>MSK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South Tees Hospitals NHS Foundation Trust (C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98280" y="1938240"/>
            <a:ext cx="2880000" cy="876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North W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Aintree University Hospitals NHS Foundation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East Lancashire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Hope Hospital, Salford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irral University Teaching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Aintree University Hospitals NHS Foundation Trust (C,M,UPGI,Li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6881760" y="1295280"/>
            <a:ext cx="2114640" cy="1090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Yorkshire &amp; The Humb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heffield Teaching Hospitals NHS Foundation Trust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York Hospitals NHS Foundation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carborough Healthcare NHS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Leeds Teaching Hospitals NHS Trust (C,G)</a:t>
            </a:r>
            <a:br>
              <a:rPr sz="700"/>
            </a:b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Calderdale and Huddersfield NHS Foundation Trust (C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09440" y="2863800"/>
            <a:ext cx="3021120" cy="1038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West Midlan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ity Hospital NHS Trust, Birmingham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ood Hope Hospital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University Hospitals Birmingham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irmingham Heartlands NHS Trust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University Hospital of North Staffordshire NHS Trust (C,U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Robert Jones &amp; Agnes Hunt NHS Tru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7461360" y="2347920"/>
            <a:ext cx="1535040" cy="1090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East Midla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Derby Hospitals NHS Foundation Trust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Queen’s Medical Centre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herwood Forest Hospitals NHS Foundation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The University Hospitals of Leicester NHS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7093080" y="3532320"/>
            <a:ext cx="1747800" cy="1196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East of Eng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olchester Hospital University 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est Suffolk Hospital NHS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ambridge University Hospitals NHS Foundation Trust (Addenbrookes Hospital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West Hertfordshire Hospitals NHS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594240" y="5383080"/>
            <a:ext cx="2930400" cy="12477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East Coa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righton and Sussex University Hospital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Darent Valley Hospital (Dartford and Gravesham NHS Trust) 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Surrey County Hospital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orthing Hospital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East Kent Hospitals University NHS Foundation Trust (Queen Elizabeth, the Queen Mother Hospitals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Medway NHS Foundation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Medway NHS Foundation Trust (C,M,G,U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Brighton and Sussex University Hospitals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576840" y="4869000"/>
            <a:ext cx="2314800" cy="1942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Lon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arnet &amp; Chase Farm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uy’s &amp; St Thomas’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Hillingdon Hospital NHS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Imperial College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 West London Elective Orthopaedic Centre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t George’s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t Mark’s Hospital (North West London Hospitals NHS Trust) 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The Whittington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UCLH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hipps Cross University Hospital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The Hillingdon Hospital NHS Trust (C,G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North Middlesex University Hospital NHS Trust (C,M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0" y="3941640"/>
            <a:ext cx="2367000" cy="17294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We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orth Devon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 Devon Healthcare NHS Foundation Trust 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Devon and Exeter NHS Foundation Trust 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Bournemouth Hospital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orth Bristol NHS Trust (Southmead Hospital)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Yeovil District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alisbury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Dorset County Hospital NHS Foundation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Plymouth Hospitals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est Dorset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South Devon Healthcare NHS Foundation Trust (Torbay Hospital)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0" y="5703840"/>
            <a:ext cx="3281400" cy="11412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Cent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Isle of Wight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Milton Keynes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Berkshire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Portsmouth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ampton University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Oxford Ratcliffe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HHT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 M)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Winchester &amp; Eastleigh NHS Trust (C,M,G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Royal Berkshire NHS Foundation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 flipV="1">
            <a:off x="2978280" y="1886040"/>
            <a:ext cx="1130040" cy="1015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 flipH="1">
            <a:off x="4520880" y="857160"/>
            <a:ext cx="2622600" cy="5652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 flipH="1">
            <a:off x="4932000" y="1681200"/>
            <a:ext cx="1955880" cy="5652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H="1">
            <a:off x="5086440" y="2863800"/>
            <a:ext cx="236520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 flipH="1" flipV="1">
            <a:off x="5961240" y="3633480"/>
            <a:ext cx="1131840" cy="2062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 flipH="1" flipV="1">
            <a:off x="5446800" y="4354560"/>
            <a:ext cx="1131840" cy="7207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4932360" y="4663800"/>
            <a:ext cx="514440" cy="718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2463840" y="4560840"/>
            <a:ext cx="107964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 flipV="1">
            <a:off x="2719440" y="4457880"/>
            <a:ext cx="2212920" cy="12348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3130560" y="3274920"/>
            <a:ext cx="102852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98280" y="85680"/>
            <a:ext cx="2305080" cy="1758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The following denotes a trust is working in this specialty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9900"/>
                </a:solidFill>
                <a:latin typeface="Verdana"/>
                <a:ea typeface="Arial"/>
              </a:rPr>
              <a:t>(M) Musculoskele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Verdana"/>
                <a:ea typeface="Arial"/>
              </a:rPr>
              <a:t>(C) Colorec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6600cc"/>
                </a:solidFill>
                <a:latin typeface="Verdana"/>
                <a:ea typeface="Arial"/>
              </a:rPr>
              <a:t>(U) Ur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3399"/>
                </a:solidFill>
                <a:latin typeface="Verdana"/>
                <a:ea typeface="Arial"/>
              </a:rPr>
              <a:t>(G) Gynaec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Verdana"/>
                <a:ea typeface="Arial"/>
              </a:rPr>
              <a:t>Enhanced Recovery Innovation Sites are shown in 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2565360" y="754200"/>
            <a:ext cx="1131840" cy="6084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Scot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NHS Lothian (M)</a:t>
            </a:r>
            <a:br>
              <a:rPr sz="700"/>
            </a:b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Gold Jubilee National Hospital (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Drivers for Implementation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bjectives for the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mplementa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am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cti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keholder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sting and making changes to your pathway Understanding the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Understanding the investmen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Maintaining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Sustaining th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684360" y="990720"/>
            <a:ext cx="76327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616680" y="6858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609480" y="1219320"/>
            <a:ext cx="8077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 way of improving the experience and well-being of patients who need major surge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609480" y="1676520"/>
            <a:ext cx="8077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, evidence-based pathway that creates fitter, patients who recover faster from major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 patients a better overall experience through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introduces innovative best practices that empower and motivate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accelerates the clinical decision-making process by empowering MD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doesn’t increase MDT work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ensures the most-efficient use of healthc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st-practice is day surgery or an Enhanced Recovery path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616320" y="685800"/>
            <a:ext cx="427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Multi-Disciplinary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blacklettering.jpg"/>
          <p:cNvPicPr/>
          <p:nvPr/>
        </p:nvPicPr>
        <p:blipFill>
          <a:blip r:embed="rId2"/>
          <a:stretch/>
        </p:blipFill>
        <p:spPr>
          <a:xfrm>
            <a:off x="128520" y="6477120"/>
            <a:ext cx="4860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Mapping your pathway against the Enhanced Recovery Elements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</a:t>
            </a:r>
            <a:br>
              <a:rPr sz="36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1042920" y="1916280"/>
            <a:ext cx="7239240" cy="4225680"/>
            <a:chOff x="1042920" y="1916280"/>
            <a:chExt cx="7239240" cy="4225680"/>
          </a:xfrm>
        </p:grpSpPr>
        <p:sp>
          <p:nvSpPr>
            <p:cNvPr id="187" name="AutoShape 5"/>
            <p:cNvSpPr/>
            <p:nvPr/>
          </p:nvSpPr>
          <p:spPr>
            <a:xfrm>
              <a:off x="1042920" y="1916280"/>
              <a:ext cx="723924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6"/>
            <p:cNvSpPr/>
            <p:nvPr/>
          </p:nvSpPr>
          <p:spPr>
            <a:xfrm>
              <a:off x="1112040" y="2403000"/>
              <a:ext cx="293580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"/>
            <p:cNvSpPr/>
            <p:nvPr/>
          </p:nvSpPr>
          <p:spPr>
            <a:xfrm>
              <a:off x="1247760" y="2455920"/>
              <a:ext cx="2733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8"/>
            <p:cNvSpPr/>
            <p:nvPr/>
          </p:nvSpPr>
          <p:spPr>
            <a:xfrm>
              <a:off x="1112040" y="3376080"/>
              <a:ext cx="293580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9"/>
            <p:cNvSpPr/>
            <p:nvPr/>
          </p:nvSpPr>
          <p:spPr>
            <a:xfrm>
              <a:off x="1179360" y="3430800"/>
              <a:ext cx="2868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5278680" y="2617920"/>
              <a:ext cx="2933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5346360" y="2617560"/>
              <a:ext cx="2729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5278680" y="3214080"/>
              <a:ext cx="2933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3"/>
            <p:cNvSpPr/>
            <p:nvPr/>
          </p:nvSpPr>
          <p:spPr>
            <a:xfrm>
              <a:off x="5413680" y="332244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4"/>
            <p:cNvSpPr/>
            <p:nvPr/>
          </p:nvSpPr>
          <p:spPr>
            <a:xfrm>
              <a:off x="3025080" y="4675680"/>
              <a:ext cx="334404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5"/>
            <p:cNvSpPr/>
            <p:nvPr/>
          </p:nvSpPr>
          <p:spPr>
            <a:xfrm>
              <a:off x="3025440" y="4676760"/>
              <a:ext cx="3343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6"/>
            <p:cNvSpPr/>
            <p:nvPr/>
          </p:nvSpPr>
          <p:spPr>
            <a:xfrm>
              <a:off x="104292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7"/>
            <p:cNvSpPr/>
            <p:nvPr/>
          </p:nvSpPr>
          <p:spPr>
            <a:xfrm>
              <a:off x="512136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8"/>
            <p:cNvSpPr/>
            <p:nvPr/>
          </p:nvSpPr>
          <p:spPr>
            <a:xfrm>
              <a:off x="3160800" y="4295520"/>
              <a:ext cx="30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2477880" y="32140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6711480" y="310644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2454840" y="4153320"/>
              <a:ext cx="78372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 flipH="1">
              <a:off x="6063120" y="3780360"/>
              <a:ext cx="62712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6193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50920" y="1803240"/>
            <a:ext cx="1625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ferral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ima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2549520" y="2644920"/>
            <a:ext cx="1308240" cy="62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1" action="ppaction://hlinksldjump"/>
              </a:rPr>
              <a:t>P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2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932280" y="3510000"/>
            <a:ext cx="128736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02080" y="4352760"/>
            <a:ext cx="12132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3" action="ppaction://hlinksldjump"/>
              </a:rPr>
              <a:t>Intr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4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6626160" y="5191200"/>
            <a:ext cx="12700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5" action="ppaction://hlinksldjump"/>
              </a:rPr>
              <a:t>Pos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6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7951680" y="6058080"/>
            <a:ext cx="941400" cy="61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0" y="3716280"/>
            <a:ext cx="2138400" cy="2705040"/>
          </a:xfrm>
          <a:prstGeom prst="wedgeRoundRectCallout">
            <a:avLst>
              <a:gd name="adj1" fmla="val 75981"/>
              <a:gd name="adj2" fmla="val -7218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 operative health &amp; 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-operative therapy instruction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6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3205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1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17448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2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40269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3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8621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4" descr="MCj04398050000[1]"/>
          <p:cNvPicPr/>
          <p:nvPr/>
        </p:nvPicPr>
        <p:blipFill>
          <a:blip r:embed="rId11"/>
          <a:stretch/>
        </p:blipFill>
        <p:spPr>
          <a:xfrm rot="20949600">
            <a:off x="7039080" y="5717880"/>
            <a:ext cx="1108080" cy="63828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25"/>
          <p:cNvSpPr/>
          <p:nvPr/>
        </p:nvSpPr>
        <p:spPr>
          <a:xfrm>
            <a:off x="2340000" y="4292640"/>
            <a:ext cx="2519280" cy="2565360"/>
          </a:xfrm>
          <a:prstGeom prst="wedgeRoundRectCallout">
            <a:avLst>
              <a:gd name="adj1" fmla="val 68023"/>
              <a:gd name="adj2" fmla="val -35953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transverse incisions (abdomi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 regional  /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management Individualised goal directed fluid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6"/>
          <p:cNvSpPr/>
          <p:nvPr/>
        </p:nvSpPr>
        <p:spPr>
          <a:xfrm>
            <a:off x="6789600" y="1814400"/>
            <a:ext cx="2152800" cy="3078360"/>
          </a:xfrm>
          <a:prstGeom prst="wedgeRoundRectCallout">
            <a:avLst>
              <a:gd name="adj1" fmla="val -37240"/>
              <a:gd name="adj2" fmla="val 5959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voidance of  systemic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7"/>
          <p:cNvSpPr/>
          <p:nvPr/>
        </p:nvSpPr>
        <p:spPr>
          <a:xfrm>
            <a:off x="4791240" y="1747800"/>
            <a:ext cx="1933560" cy="169236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 on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HO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/ reduced oral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8"/>
          <p:cNvSpPr/>
          <p:nvPr/>
        </p:nvSpPr>
        <p:spPr>
          <a:xfrm>
            <a:off x="4932360" y="5735520"/>
            <a:ext cx="1976400" cy="1122480"/>
          </a:xfrm>
          <a:prstGeom prst="wedgeRoundRectCallout">
            <a:avLst>
              <a:gd name="adj1" fmla="val 102689"/>
              <a:gd name="adj2" fmla="val -473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when criteria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9"/>
          <p:cNvSpPr/>
          <p:nvPr/>
        </p:nvSpPr>
        <p:spPr>
          <a:xfrm>
            <a:off x="2590920" y="1797120"/>
            <a:ext cx="2112840" cy="798480"/>
          </a:xfrm>
          <a:prstGeom prst="wedgeRoundRectCallout">
            <a:avLst>
              <a:gd name="adj1" fmla="val -77875"/>
              <a:gd name="adj2" fmla="val 168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ing pre operative haemoglobin lev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ing pre existing co morbidities e.g. diabe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 Pathway Projec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rt-term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pport to change the pathway (e.g. service improvement, change manager, facilitator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raining – new skills e.g. pre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quipment – invest to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unication/awar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nd out what is already in place &amp; going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ke the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at investment may be requi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Diagram 6"/>
          <p:cNvGrpSpPr/>
          <p:nvPr/>
        </p:nvGrpSpPr>
        <p:grpSpPr>
          <a:xfrm>
            <a:off x="525600" y="1497960"/>
            <a:ext cx="6268680" cy="4934880"/>
            <a:chOff x="525600" y="1497960"/>
            <a:chExt cx="6268680" cy="4934880"/>
          </a:xfrm>
        </p:grpSpPr>
        <p:sp>
          <p:nvSpPr>
            <p:cNvPr id="233" name="_s35848"/>
            <p:cNvSpPr/>
            <p:nvPr/>
          </p:nvSpPr>
          <p:spPr>
            <a:xfrm flipH="1" flipV="1">
              <a:off x="385560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5849"/>
            <p:cNvSpPr/>
            <p:nvPr/>
          </p:nvSpPr>
          <p:spPr>
            <a:xfrm>
              <a:off x="2927160" y="256716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35850"/>
            <p:cNvSpPr/>
            <p:nvPr/>
          </p:nvSpPr>
          <p:spPr>
            <a:xfrm flipH="1">
              <a:off x="35384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5851"/>
            <p:cNvSpPr/>
            <p:nvPr/>
          </p:nvSpPr>
          <p:spPr>
            <a:xfrm>
              <a:off x="2450880" y="3719880"/>
              <a:ext cx="1085760" cy="108576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35852"/>
            <p:cNvSpPr/>
            <p:nvPr/>
          </p:nvSpPr>
          <p:spPr>
            <a:xfrm flipH="1">
              <a:off x="385560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35853"/>
            <p:cNvSpPr/>
            <p:nvPr/>
          </p:nvSpPr>
          <p:spPr>
            <a:xfrm>
              <a:off x="2928600" y="4870800"/>
              <a:ext cx="1086120" cy="10857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un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35854"/>
            <p:cNvSpPr/>
            <p:nvPr/>
          </p:nvSpPr>
          <p:spPr>
            <a:xfrm>
              <a:off x="4622400" y="480240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35855"/>
            <p:cNvSpPr/>
            <p:nvPr/>
          </p:nvSpPr>
          <p:spPr>
            <a:xfrm>
              <a:off x="4081320" y="5346720"/>
              <a:ext cx="1085760" cy="1086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ematic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proa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5856"/>
            <p:cNvSpPr/>
            <p:nvPr/>
          </p:nvSpPr>
          <p:spPr>
            <a:xfrm>
              <a:off x="500508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35857"/>
            <p:cNvSpPr/>
            <p:nvPr/>
          </p:nvSpPr>
          <p:spPr>
            <a:xfrm>
              <a:off x="5232240" y="4869000"/>
              <a:ext cx="1085760" cy="1085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am-work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5858"/>
            <p:cNvSpPr/>
            <p:nvPr/>
          </p:nvSpPr>
          <p:spPr>
            <a:xfrm>
              <a:off x="51638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35859"/>
            <p:cNvSpPr/>
            <p:nvPr/>
          </p:nvSpPr>
          <p:spPr>
            <a:xfrm>
              <a:off x="5708520" y="371808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kil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5860"/>
            <p:cNvSpPr/>
            <p:nvPr/>
          </p:nvSpPr>
          <p:spPr>
            <a:xfrm flipV="1">
              <a:off x="500508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35861"/>
            <p:cNvSpPr/>
            <p:nvPr/>
          </p:nvSpPr>
          <p:spPr>
            <a:xfrm>
              <a:off x="5230440" y="2567160"/>
              <a:ext cx="1086120" cy="10857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d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agement &amp;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untabil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35862"/>
            <p:cNvSpPr/>
            <p:nvPr/>
          </p:nvSpPr>
          <p:spPr>
            <a:xfrm flipV="1">
              <a:off x="4622400" y="3176280"/>
              <a:ext cx="0" cy="5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35863"/>
            <p:cNvSpPr/>
            <p:nvPr/>
          </p:nvSpPr>
          <p:spPr>
            <a:xfrm>
              <a:off x="4079520" y="2090880"/>
              <a:ext cx="1086120" cy="10857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c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it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35864"/>
            <p:cNvSpPr/>
            <p:nvPr/>
          </p:nvSpPr>
          <p:spPr>
            <a:xfrm>
              <a:off x="4079520" y="3719880"/>
              <a:ext cx="1086120" cy="10857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hanc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ve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"/>
            <p:cNvSpPr/>
            <p:nvPr/>
          </p:nvSpPr>
          <p:spPr>
            <a:xfrm rot="20661000">
              <a:off x="540000" y="2070360"/>
              <a:ext cx="43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Finance is not the only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actical activities to get you starte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Based on the Implementation Gu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ccess to advice, guidance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Discuss the key elements of your local implement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What else is ER align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198880" y="1600200"/>
            <a:ext cx="4750560" cy="4416120"/>
            <a:chOff x="2198880" y="1600200"/>
            <a:chExt cx="4750560" cy="4416120"/>
          </a:xfrm>
        </p:grpSpPr>
        <p:sp>
          <p:nvSpPr>
            <p:cNvPr id="255" name="_s214043"/>
            <p:cNvSpPr/>
            <p:nvPr/>
          </p:nvSpPr>
          <p:spPr>
            <a:xfrm flipH="1" flipV="1">
              <a:off x="3719880" y="2912040"/>
              <a:ext cx="504360" cy="55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14044"/>
            <p:cNvSpPr/>
            <p:nvPr/>
          </p:nvSpPr>
          <p:spPr>
            <a:xfrm>
              <a:off x="2835000" y="2010600"/>
              <a:ext cx="1084320" cy="10206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CA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14045"/>
            <p:cNvSpPr/>
            <p:nvPr/>
          </p:nvSpPr>
          <p:spPr>
            <a:xfrm flipH="1" flipV="1">
              <a:off x="3270960" y="3649680"/>
              <a:ext cx="76896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14046"/>
            <p:cNvSpPr/>
            <p:nvPr/>
          </p:nvSpPr>
          <p:spPr>
            <a:xfrm>
              <a:off x="2198880" y="3046680"/>
              <a:ext cx="1084320" cy="1020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p Tip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214047"/>
            <p:cNvSpPr/>
            <p:nvPr/>
          </p:nvSpPr>
          <p:spPr>
            <a:xfrm flipH="1">
              <a:off x="3430800" y="4114800"/>
              <a:ext cx="67428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214048"/>
            <p:cNvSpPr/>
            <p:nvPr/>
          </p:nvSpPr>
          <p:spPr>
            <a:xfrm>
              <a:off x="2419920" y="4226760"/>
              <a:ext cx="1084320" cy="10198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ctual B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r>
                <a:rPr b="1" lang="en-GB" sz="17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214049"/>
            <p:cNvSpPr/>
            <p:nvPr/>
          </p:nvSpPr>
          <p:spPr>
            <a:xfrm flipH="1">
              <a:off x="4125240" y="4336560"/>
              <a:ext cx="263880" cy="69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214050"/>
            <p:cNvSpPr/>
            <p:nvPr/>
          </p:nvSpPr>
          <p:spPr>
            <a:xfrm>
              <a:off x="3394800" y="4995720"/>
              <a:ext cx="1084320" cy="1020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ur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pensin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214051"/>
            <p:cNvSpPr/>
            <p:nvPr/>
          </p:nvSpPr>
          <p:spPr>
            <a:xfrm>
              <a:off x="4758840" y="4336560"/>
              <a:ext cx="268920" cy="68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214052"/>
            <p:cNvSpPr/>
            <p:nvPr/>
          </p:nvSpPr>
          <p:spPr>
            <a:xfrm>
              <a:off x="4668480" y="4995720"/>
              <a:ext cx="1084680" cy="1020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tocol L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214053"/>
            <p:cNvSpPr/>
            <p:nvPr/>
          </p:nvSpPr>
          <p:spPr>
            <a:xfrm>
              <a:off x="5040000" y="4113000"/>
              <a:ext cx="676440" cy="36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214054"/>
            <p:cNvSpPr/>
            <p:nvPr/>
          </p:nvSpPr>
          <p:spPr>
            <a:xfrm>
              <a:off x="5644080" y="4224600"/>
              <a:ext cx="1084320" cy="1019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cke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214055"/>
            <p:cNvSpPr/>
            <p:nvPr/>
          </p:nvSpPr>
          <p:spPr>
            <a:xfrm flipV="1">
              <a:off x="5103360" y="3642120"/>
              <a:ext cx="768960" cy="12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214056"/>
            <p:cNvSpPr/>
            <p:nvPr/>
          </p:nvSpPr>
          <p:spPr>
            <a:xfrm>
              <a:off x="5864760" y="3044520"/>
              <a:ext cx="1084680" cy="10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ou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214057"/>
            <p:cNvSpPr/>
            <p:nvPr/>
          </p:nvSpPr>
          <p:spPr>
            <a:xfrm flipV="1">
              <a:off x="4919040" y="2907000"/>
              <a:ext cx="501480" cy="56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214058"/>
            <p:cNvSpPr/>
            <p:nvPr/>
          </p:nvSpPr>
          <p:spPr>
            <a:xfrm>
              <a:off x="5226840" y="2008440"/>
              <a:ext cx="1084320" cy="1019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ductiv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214059"/>
            <p:cNvSpPr/>
            <p:nvPr/>
          </p:nvSpPr>
          <p:spPr>
            <a:xfrm flipV="1">
              <a:off x="4571640" y="2617200"/>
              <a:ext cx="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214060"/>
            <p:cNvSpPr/>
            <p:nvPr/>
          </p:nvSpPr>
          <p:spPr>
            <a:xfrm>
              <a:off x="4030920" y="1600200"/>
              <a:ext cx="1084320" cy="1019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e – 11 am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214061"/>
            <p:cNvSpPr/>
            <p:nvPr/>
          </p:nvSpPr>
          <p:spPr>
            <a:xfrm>
              <a:off x="4030920" y="3352680"/>
              <a:ext cx="1084320" cy="1020600"/>
            </a:xfrm>
            <a:prstGeom prst="ellipse">
              <a:avLst/>
            </a:prstGeom>
            <a:solidFill>
              <a:srgbClr val="e1b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RP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and improving  systems and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979560" y="1600200"/>
            <a:ext cx="7184880" cy="45259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5"/>
          <p:cNvSpPr/>
          <p:nvPr/>
        </p:nvSpPr>
        <p:spPr>
          <a:xfrm>
            <a:off x="971640" y="2924280"/>
            <a:ext cx="7272360" cy="1728720"/>
          </a:xfrm>
          <a:prstGeom prst="rightArrow">
            <a:avLst>
              <a:gd name="adj1" fmla="val 50000"/>
              <a:gd name="adj2" fmla="val 1051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042920" y="34974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atient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take mapping and tra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1116000" y="2709720"/>
            <a:ext cx="6856200" cy="3462120"/>
            <a:chOff x="1116000" y="2709720"/>
            <a:chExt cx="6856200" cy="3462120"/>
          </a:xfrm>
        </p:grpSpPr>
        <p:sp>
          <p:nvSpPr>
            <p:cNvPr id="284" name="Rectangle 5"/>
            <p:cNvSpPr/>
            <p:nvPr/>
          </p:nvSpPr>
          <p:spPr>
            <a:xfrm>
              <a:off x="252576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74328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7"/>
            <p:cNvSpPr/>
            <p:nvPr/>
          </p:nvSpPr>
          <p:spPr>
            <a:xfrm>
              <a:off x="483264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8"/>
            <p:cNvSpPr/>
            <p:nvPr/>
          </p:nvSpPr>
          <p:spPr>
            <a:xfrm>
              <a:off x="598572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9"/>
            <p:cNvSpPr/>
            <p:nvPr/>
          </p:nvSpPr>
          <p:spPr>
            <a:xfrm>
              <a:off x="605016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0"/>
            <p:cNvSpPr/>
            <p:nvPr/>
          </p:nvSpPr>
          <p:spPr>
            <a:xfrm>
              <a:off x="483264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374328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585792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464040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355104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233352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118008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"/>
            <p:cNvSpPr/>
            <p:nvPr/>
          </p:nvSpPr>
          <p:spPr>
            <a:xfrm>
              <a:off x="111600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8"/>
            <p:cNvSpPr/>
            <p:nvPr/>
          </p:nvSpPr>
          <p:spPr>
            <a:xfrm>
              <a:off x="246132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9"/>
            <p:cNvSpPr/>
            <p:nvPr/>
          </p:nvSpPr>
          <p:spPr>
            <a:xfrm>
              <a:off x="720360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0"/>
            <p:cNvSpPr/>
            <p:nvPr/>
          </p:nvSpPr>
          <p:spPr>
            <a:xfrm>
              <a:off x="720360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>
              <a:off x="329472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444816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>
              <a:off x="5665680" y="3019320"/>
              <a:ext cx="44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>
              <a:off x="675468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5"/>
            <p:cNvSpPr/>
            <p:nvPr/>
          </p:nvSpPr>
          <p:spPr>
            <a:xfrm>
              <a:off x="7523640" y="3300840"/>
              <a:ext cx="0" cy="844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1949040" y="5890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3102480" y="5890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>
              <a:off x="1404360" y="4792680"/>
              <a:ext cx="0" cy="75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>
              <a:off x="5409360" y="583416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4320000" y="5834160"/>
              <a:ext cx="44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 -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e map provided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your current service -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 the interventions you already have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should also consider when, where and how they   are provided and whether there is further opportunity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interventions you need to establish and start to consider the sequence for imple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Stakeholder Analysi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dentifying the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requires a number of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linica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are systems a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team to work across the patient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quire technical and behavioural 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tart with thinking about who to engage and how to structure the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ssential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pon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uthority to sanction change (organisational  alignment /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nge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acilitate change, require knowledge, skills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mp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pected opinion leaders who positively promot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a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ad b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820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2124000" y="1413000"/>
            <a:ext cx="431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2600" y="141444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4492800" y="4303800"/>
            <a:ext cx="183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5120" y="4494600"/>
            <a:ext cx="1131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563840" y="2349360"/>
            <a:ext cx="6941880" cy="35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7"/>
          <p:cNvSpPr/>
          <p:nvPr/>
        </p:nvSpPr>
        <p:spPr>
          <a:xfrm>
            <a:off x="5086440" y="2392200"/>
            <a:ext cx="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"/>
          <p:cNvSpPr/>
          <p:nvPr/>
        </p:nvSpPr>
        <p:spPr>
          <a:xfrm>
            <a:off x="1563840" y="4135320"/>
            <a:ext cx="692784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797120" y="2479680"/>
            <a:ext cx="331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atis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inion 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eep satis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view regul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5326200" y="240660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ey Stakeholders need to be fully engaged through full communication &amp;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797120" y="4280040"/>
            <a:ext cx="331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 /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t crucial to the process but useful to keep in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5253120" y="4135320"/>
            <a:ext cx="3170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v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Voices that need to be he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eed to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441360" y="275580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igh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322200" y="3989520"/>
            <a:ext cx="12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ittle / No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2805120" y="60069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ittle / No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5548320" y="6006960"/>
            <a:ext cx="13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igh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7"/>
          <p:cNvSpPr/>
          <p:nvPr/>
        </p:nvSpPr>
        <p:spPr>
          <a:xfrm flipV="1">
            <a:off x="933480" y="52880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8"/>
          <p:cNvSpPr/>
          <p:nvPr/>
        </p:nvSpPr>
        <p:spPr>
          <a:xfrm>
            <a:off x="933480" y="63673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"/>
          <p:cNvSpPr/>
          <p:nvPr/>
        </p:nvSpPr>
        <p:spPr>
          <a:xfrm flipV="1">
            <a:off x="933480" y="35589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"/>
          <p:cNvSpPr/>
          <p:nvPr/>
        </p:nvSpPr>
        <p:spPr>
          <a:xfrm flipV="1">
            <a:off x="3710160" y="6311520"/>
            <a:ext cx="1817640" cy="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 S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nciples, elements an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benefits of ERP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ivers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urrent and future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ction Plann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sting changes for improvemen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asur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guide to stakeholder analysis and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S Institute for Innovation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ndbook of Quality and Service improvement Tool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3 Stakeholder and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828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n the sheets you have record your stakeholders for your chosen pathway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n, if you have time -  in relation to each pathway record the key actions needed to ensure effective stakeholder engagement for that work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will be specific to a path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may cross all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may involve the same group of stakeholders but differe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Action planning and potential challenges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ction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Take time to deliberate; but when the time for action arrives, stop thinking and go i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-Andrew Jackson quoting Napoleon Bon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8"/>
          <p:cNvSpPr/>
          <p:nvPr/>
        </p:nvSpPr>
        <p:spPr>
          <a:xfrm>
            <a:off x="2627280" y="1527120"/>
            <a:ext cx="55562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9"/>
          <p:cNvSpPr/>
          <p:nvPr/>
        </p:nvSpPr>
        <p:spPr>
          <a:xfrm>
            <a:off x="2627280" y="3152880"/>
            <a:ext cx="2673360" cy="2514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0"/>
          <p:cNvSpPr/>
          <p:nvPr/>
        </p:nvSpPr>
        <p:spPr>
          <a:xfrm>
            <a:off x="5511960" y="1527120"/>
            <a:ext cx="2671560" cy="2895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738720" y="3022560"/>
            <a:ext cx="170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mongst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key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4345200" y="5684760"/>
            <a:ext cx="206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ertai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hat th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wil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3047760" y="3951360"/>
            <a:ext cx="92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J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J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1994040" y="52372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7743960" y="56181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6"/>
          <p:cNvSpPr/>
          <p:nvPr/>
        </p:nvSpPr>
        <p:spPr>
          <a:xfrm>
            <a:off x="2141640" y="15033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2627280" y="56181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8"/>
          <p:cNvSpPr/>
          <p:nvPr/>
        </p:nvSpPr>
        <p:spPr>
          <a:xfrm>
            <a:off x="6657480" y="1592280"/>
            <a:ext cx="14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est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 v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9"/>
          <p:cNvSpPr/>
          <p:nvPr/>
        </p:nvSpPr>
        <p:spPr>
          <a:xfrm flipV="1">
            <a:off x="2352600" y="1969920"/>
            <a:ext cx="12600" cy="325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0"/>
          <p:cNvSpPr/>
          <p:nvPr/>
        </p:nvSpPr>
        <p:spPr>
          <a:xfrm>
            <a:off x="3305160" y="585936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1"/>
          <p:cNvSpPr/>
          <p:nvPr/>
        </p:nvSpPr>
        <p:spPr>
          <a:xfrm flipV="1">
            <a:off x="5943600" y="5871960"/>
            <a:ext cx="18064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524640" y="260280"/>
            <a:ext cx="2440080" cy="8650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Impr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Do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Testing Changes for Improvement</a:t>
            </a: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Principles, elements and benefits of Enhanced Recovery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176640"/>
                <a:gridCol w="1346040"/>
                <a:gridCol w="1870200"/>
                <a:gridCol w="639720"/>
                <a:gridCol w="604800"/>
                <a:gridCol w="59220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sour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lanning &amp;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n your table provided start to fill in from the earlier work today which actions need to be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o can deliver thes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at is the timescale – 30, 60 or 9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Resourse – flag up what support you may need here to deliver the action – eg connection into the local PCT, facilitator to deliver 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Include in this the top three challenges that you 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you will encounter and the actions you will pu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place to work through these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Measuring Outcome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/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-  elements of the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3"/>
          <p:cNvGrpSpPr/>
          <p:nvPr/>
        </p:nvGrpSpPr>
        <p:grpSpPr>
          <a:xfrm>
            <a:off x="1209600" y="2276640"/>
            <a:ext cx="6683400" cy="4225680"/>
            <a:chOff x="1209600" y="2276640"/>
            <a:chExt cx="6683400" cy="4225680"/>
          </a:xfrm>
        </p:grpSpPr>
        <p:sp>
          <p:nvSpPr>
            <p:cNvPr id="418" name="AutoShape 4"/>
            <p:cNvSpPr/>
            <p:nvPr/>
          </p:nvSpPr>
          <p:spPr>
            <a:xfrm>
              <a:off x="1209600" y="2276640"/>
              <a:ext cx="668340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1273320" y="2763360"/>
              <a:ext cx="271008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6"/>
            <p:cNvSpPr/>
            <p:nvPr/>
          </p:nvSpPr>
          <p:spPr>
            <a:xfrm>
              <a:off x="1398600" y="2816280"/>
              <a:ext cx="252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273320" y="3736440"/>
              <a:ext cx="271008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8"/>
            <p:cNvSpPr/>
            <p:nvPr/>
          </p:nvSpPr>
          <p:spPr>
            <a:xfrm>
              <a:off x="1334520" y="3791160"/>
              <a:ext cx="26496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"/>
            <p:cNvSpPr/>
            <p:nvPr/>
          </p:nvSpPr>
          <p:spPr>
            <a:xfrm>
              <a:off x="5119920" y="2978280"/>
              <a:ext cx="2708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0"/>
            <p:cNvSpPr/>
            <p:nvPr/>
          </p:nvSpPr>
          <p:spPr>
            <a:xfrm>
              <a:off x="5182560" y="2977920"/>
              <a:ext cx="2519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1"/>
            <p:cNvSpPr/>
            <p:nvPr/>
          </p:nvSpPr>
          <p:spPr>
            <a:xfrm>
              <a:off x="5119920" y="3574440"/>
              <a:ext cx="2708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2"/>
            <p:cNvSpPr/>
            <p:nvPr/>
          </p:nvSpPr>
          <p:spPr>
            <a:xfrm>
              <a:off x="5244840" y="3682800"/>
              <a:ext cx="252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3039480" y="5036040"/>
              <a:ext cx="308736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4"/>
            <p:cNvSpPr/>
            <p:nvPr/>
          </p:nvSpPr>
          <p:spPr>
            <a:xfrm>
              <a:off x="3039840" y="5037120"/>
              <a:ext cx="3086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5"/>
            <p:cNvSpPr/>
            <p:nvPr/>
          </p:nvSpPr>
          <p:spPr>
            <a:xfrm>
              <a:off x="1209600" y="2400480"/>
              <a:ext cx="283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6"/>
            <p:cNvSpPr/>
            <p:nvPr/>
          </p:nvSpPr>
          <p:spPr>
            <a:xfrm>
              <a:off x="4974840" y="2400480"/>
              <a:ext cx="283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7"/>
            <p:cNvSpPr/>
            <p:nvPr/>
          </p:nvSpPr>
          <p:spPr>
            <a:xfrm>
              <a:off x="3164760" y="4655880"/>
              <a:ext cx="283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2534400" y="357444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6442920" y="346680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2513160" y="4513680"/>
              <a:ext cx="7236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 flipH="1">
              <a:off x="5843880" y="4140720"/>
              <a:ext cx="57924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D3AA-685B-41EC-9EBA-B7FBA6F3AF5F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4"/>
          <p:cNvSpPr/>
          <p:nvPr/>
        </p:nvSpPr>
        <p:spPr>
          <a:xfrm>
            <a:off x="0" y="260280"/>
            <a:ext cx="795672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king your baselin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6" descr="View of University College Hospital"/>
          <p:cNvPicPr/>
          <p:nvPr/>
        </p:nvPicPr>
        <p:blipFill>
          <a:blip r:embed="rId12"/>
          <a:stretch/>
        </p:blipFill>
        <p:spPr>
          <a:xfrm>
            <a:off x="6948360" y="247680"/>
            <a:ext cx="18748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 Pathwa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Implementation &amp; Sustainabilit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319280" cy="24703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4103640" cy="25923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547640" y="5157720"/>
            <a:ext cx="2737080" cy="9352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93080" y="2205000"/>
            <a:ext cx="1368360" cy="934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523280" y="5300640"/>
            <a:ext cx="108108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1280" y="2421000"/>
            <a:ext cx="1873440" cy="8636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0872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71640" y="494172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59640" y="1989000"/>
            <a:ext cx="865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132000" y="198900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6436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124000" y="177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580000" y="17002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ic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35280" y="466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659640" y="44496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QUI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Ann’s story to the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Deputy Prime Min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66560" y="3106800"/>
            <a:ext cx="3446640" cy="24764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651640" y="2133720"/>
            <a:ext cx="3225600" cy="3671640"/>
          </a:xfrm>
          <a:prstGeom prst="wedgeRoundRectCallout">
            <a:avLst>
              <a:gd name="adj1" fmla="val -109694"/>
              <a:gd name="adj2" fmla="val 16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d two hip replacements last year. One in June and one in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one was much better, the service is fabulo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Benefits Realisation</a:t>
            </a: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Re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396216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4"/>
          <p:cNvSpPr/>
          <p:nvPr/>
        </p:nvSpPr>
        <p:spPr>
          <a:xfrm>
            <a:off x="108000" y="33336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nhanced Recovery is a new way of improving the experience and well-being of patients who need major surger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r Better Soone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Next Step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king it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ongoing support can we prov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lement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llow-up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be your first change you will test or imp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 the importance of a quick win as well as a plan for 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ice guidance and support –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hanced Recovery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H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ocal Network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CLH Implementati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/ DVD / Top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sight/departments/Projects/QEP/Pages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ome.asp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improvement.nhs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rinciples of 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etting the patient in to the best possible condition fo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suring the patient has the best possible management during their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suring the patient has the best post-operative rehabil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hlets theory – 198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erastable"/>
          <p:cNvPicPr/>
          <p:nvPr/>
        </p:nvPicPr>
        <p:blipFill>
          <a:blip r:embed="rId2"/>
          <a:stretch/>
        </p:blipFill>
        <p:spPr>
          <a:xfrm>
            <a:off x="1442880" y="1600200"/>
            <a:ext cx="625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7C67-F865-49D6-B9E8-FF4C68349ECC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xample of ER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View of University College Hospital"/>
          <p:cNvPicPr/>
          <p:nvPr/>
        </p:nvPicPr>
        <p:blipFill>
          <a:blip r:embed="rId12"/>
          <a:stretch/>
        </p:blipFill>
        <p:spPr>
          <a:xfrm>
            <a:off x="6948360" y="247680"/>
            <a:ext cx="18748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9:20:26Z</dcterms:created>
  <dc:creator>btalwar</dc:creator>
  <dc:description/>
  <dc:language>en-US</dc:language>
  <cp:lastModifiedBy>LHollins</cp:lastModifiedBy>
  <dcterms:modified xsi:type="dcterms:W3CDTF">2012-03-30T16:44:38Z</dcterms:modified>
  <cp:revision>21</cp:revision>
  <dc:subject/>
  <dc:title>Slide 1</dc:title>
</cp:coreProperties>
</file>