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CF46-EFBA-498E-A44D-256429EE0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9B31D0-7DC1-40B9-B70C-70139A324FF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E1BDA-4C98-47E0-8BF7-C2E0D4D9F3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8624-A559-4ED9-9F89-38E52C80DD0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6440" cy="3206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0B8A06-5883-48CC-8005-D4FA6883102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AE46-9C88-417F-826B-FC0F6B33F25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90600" y="798480"/>
            <a:ext cx="4276800" cy="320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7B9-087C-4BF3-8B22-08846546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C07-C2EC-4BF9-8498-F56D9C9B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318-C5C1-4D8C-850D-CB58D667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FFE-42A0-415C-9A4B-2AAAEA97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6C6-F845-4771-A4B2-DE580AA1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4BF-D488-4CB3-BCC2-757310CB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504-6C52-45BD-9E3A-ECE85BB6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6FA-B896-45A8-8FC0-C8403731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C6E-6C60-4491-82A7-841D68DD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355-59CE-471E-A874-F771A0B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0C9-0E6C-4BB3-ACA1-D058DFC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3F1-5CF6-4475-B94E-DD841CD9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DADB-FC3A-476F-B66A-344150E999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h.gov.uk/enhancedrecover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dh.gov.uk/en/Healthcare/Electivecare/Enhancedrecovery/DH_115638" TargetMode="External"/><Relationship Id="rId4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817280"/>
            <a:ext cx="8351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Program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e5"/>
                </a:solidFill>
                <a:latin typeface="Arial"/>
              </a:rPr>
              <a:t>Helping patients to get better sooner after surgery’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 improve the quality of patients care by improving their experience</a:t>
            </a: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165720"/>
            <a:ext cx="89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-learning module will take 20 minutes and there will be a short assessment at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259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9C95-EC1C-41E4-B4D6-1C870D7A5A4E}" type="slidenum">
              <a:rPr b="1" lang="en-CA" sz="20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9235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084720" y="22860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to consider for Surg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.cover.gif"/>
          <p:cNvPicPr/>
          <p:nvPr/>
        </p:nvPicPr>
        <p:blipFill>
          <a:blip r:embed="rId2"/>
          <a:stretch/>
        </p:blipFill>
        <p:spPr>
          <a:xfrm>
            <a:off x="1389240" y="609480"/>
            <a:ext cx="1785600" cy="25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6446880"/>
            <a:ext cx="47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9772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259c2"/>
                </a:solidFill>
                <a:latin typeface="Arial"/>
              </a:rPr>
              <a:t>Fit for Surgery? Mythen MG. Anesthesia and Analgesia: April and Ma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key drivers for change within the quality and safety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linical quality, patient safety and clinci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 with CQUINS and PbR tarr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we measur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 high quality data to support practic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what ar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(compliance with the clinical path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(compl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 experience (satisf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, evaluate, refine and embed change based on evidence of own practice.  Benefits realisation can take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 is Clinically Led with Senior Management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nical leadership is crucial for successful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ders are respected role models who can influence peers and other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olvement and engagement of all members within the MDT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management, Change management, Faciliators, , senior management support and key stakeholder support and engagement is an ongoing process, and not just at the outset of the implement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hos of the Clinical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lebrate the success of your work and 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 mutual respect and value the different and complementary roles of the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age in the top tips for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the ‘can do’ culture that empowers and enables clinical teams to test new ways of working, without fear, risk or b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are the strong relationships between managers and clinicians with quality &amp; safety being high on the executive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41240" y="34596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60080"/>
            <a:ext cx="799308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Benefits from Informed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(shared) decision making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3280" y="1585440"/>
            <a:ext cx="7081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cision aids provi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to patients in making the best decision for their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to help them understand whether to have a diagnostic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of their condition and the progression of their dis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eatment options available to them, the side effects and benefits of each o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about the issues that are most important to them/their p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 is important at UCLH and n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112" name="_s131079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1080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1081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1082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1083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1084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1085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31086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1087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1088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1089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1090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31091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1092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31093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1094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31095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1096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31097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135" name="_s129031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29032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9033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29034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29035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29036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29037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29038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9039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9040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9041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9042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29043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9044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29045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9046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29047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356760"/>
            <a:ext cx="511812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entury Gothic"/>
              </a:rPr>
              <a:t>National program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to SHAs to lead a local spread and adoption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 support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h.gov.uk/enhanced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ting emergent evidence working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inion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keholder engagement with national bodies to embed enhanced recovery as the standard model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cy alignment to support local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I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nhanced 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t is important at UCLH and n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n it for Pat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ral from Primary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ealth problems are identified &amp; managed to enable the patient to be in the best possible condition f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evidence based management during and after surg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mobilisation and timely discharge for the best rehabilitation wit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Recovery for Pati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4950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m a partner with you in their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he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their questions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reatment a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m moving soon afte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not gain if their in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m to behave as nor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fidence to go home and get in touch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decision about me without m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MDT 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263160"/>
            <a:ext cx="6049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i="1" lang="ja-JP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GB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in it for Primary Ca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patients a better overall experience through higher quality care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uts GPs in control of commissioning the right pathways for thei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patient discharge doesn’t create extra workload for primary or social car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mproves efficiency and productivity whilst improving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and patients work in partnership through informed decision-making and great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linically proven approach to faster patien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 – Greatest Challenges – Opportunities for Commissio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tness for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uly infor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ust discharg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y r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91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58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05440" cy="57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Text Box 6"/>
          <p:cNvSpPr/>
          <p:nvPr/>
        </p:nvSpPr>
        <p:spPr>
          <a:xfrm>
            <a:off x="1058760" y="6284880"/>
            <a:ext cx="73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For copies of the clinical evidence compendium or further information contac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http://www.dh.gov.uk/en/Healthcare/Electivecare/Enhancedrecovery/DH_115638</a:t>
            </a:r>
            <a:r>
              <a:rPr b="0" lang="en-US" sz="1200" spc="-1" strike="noStrike" u="sng">
                <a:solidFill>
                  <a:srgbClr val="3e3094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575400" y="1303200"/>
            <a:ext cx="2568600" cy="417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0200" y="402840"/>
            <a:ext cx="56530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5210280" y="2082960"/>
            <a:ext cx="23922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4541760" y="3282840"/>
            <a:ext cx="2181240" cy="3378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1030320" y="1414440"/>
            <a:ext cx="328752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principl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elective surgery with an innovative, high quality car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are in the optimal condition for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a better care experience before, during and after their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is a role for every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6360" y="603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988920" y="1627200"/>
            <a:ext cx="3267000" cy="47973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959360" y="2784600"/>
            <a:ext cx="378612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ting patien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healthc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tting bureaucrac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7920" y="1459080"/>
            <a:ext cx="368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re principles of enhanced recovery are aligned to the Health White Pa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t makes a difference to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une there was no Enhanced Recovery Programme in place but in December there w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31880" y="118800"/>
            <a:ext cx="77277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Diagram 3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826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4358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tential capacity rele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Patient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Trad and ER Pathway.bmp"/>
          <p:cNvPicPr/>
          <p:nvPr/>
        </p:nvPicPr>
        <p:blipFill>
          <a:blip r:embed="rId1"/>
          <a:srcRect l="1775" t="1392" r="1775" b="1801"/>
          <a:stretch/>
        </p:blipFill>
        <p:spPr>
          <a:xfrm>
            <a:off x="289080" y="1557360"/>
            <a:ext cx="8604000" cy="504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5513400" y="5203800"/>
            <a:ext cx="294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itional pathwa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£200 per day pp)= £2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Reduction ER = £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07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Influencing Patient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720" y="1574280"/>
            <a:ext cx="38066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rastable"/>
          <p:cNvPicPr/>
          <p:nvPr/>
        </p:nvPicPr>
        <p:blipFill>
          <a:blip r:embed="rId1"/>
          <a:stretch/>
        </p:blipFill>
        <p:spPr>
          <a:xfrm>
            <a:off x="1434960" y="1738440"/>
            <a:ext cx="6496200" cy="433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19640" y="537372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NAH - Could this slide be combined in some way with the next one (mountain).  Will need to include reference but we can do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llet’s Theory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e different stages of car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ther health problems are identified &amp; managed to enable the patient to be in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possible evidence based management is given to the patient during and after sur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s are encouraged with early mobilisation and timely discharge for the best rehabilitation with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678960"/>
            <a:ext cx="89647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Enhanced Recovery Elements at key stages of th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884B-5428-42C9-B8B7-3F433A8E82F8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9:39:24Z</dcterms:created>
  <dc:creator>btalwar</dc:creator>
  <dc:description/>
  <dc:language>en-US</dc:language>
  <cp:lastModifiedBy>LHollins</cp:lastModifiedBy>
  <dcterms:modified xsi:type="dcterms:W3CDTF">2012-03-30T16:45:28Z</dcterms:modified>
  <cp:revision>21</cp:revision>
  <dc:subject/>
  <dc:title>Enhanced Recovery e-learning module</dc:title>
</cp:coreProperties>
</file>