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jpeg" ContentType="image/jpeg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CC4-57A7-4F49-85E3-7BE5326D2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71D661-41DD-4C6E-9C2D-C820D1AB190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F2CAB-7367-426B-904D-296941DBE0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AA13-DF67-4E4E-8BA6-42ECBCDCEC4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92400" y="798480"/>
            <a:ext cx="4276440" cy="320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RE TO TRANSFORMING CARE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Abdominal Hystr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e 2010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/ May 2011: ER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ost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inimal invasive surgery (robotics)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 2010: Move to same day admission for elective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IMPROV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Primary Hip Replace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c 2010: Patient education group and post op follow up star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pril – Current: Sustainability is an issue relating to integrated Multidisciplinary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: Reduced variation since starting ERP suggesting that majority of the patients are following the path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dian LOS for Colectom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: Ongoing issues with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b 2011: CQUINS started refocussing E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oth improvement areas there will be an improvement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ICTE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6FE615-71DE-4C31-B674-DB2DDB8804E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3E3C-A983-4FB7-869B-C913214A995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90600" y="798480"/>
            <a:ext cx="4276800" cy="320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E22-6CF1-4773-A1AE-D159486C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573-95A5-41AC-98C2-1CAE3263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FC7-62A5-4E37-BFC9-37EE8D32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D4A-80DB-4C12-8E73-4E7DA1ED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914-E23C-47BA-9A9B-09365A3E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9EF-E82A-4625-AE06-02ADE1D3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917-8EDD-4146-AE71-AD0B784A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427-9481-4B97-A01E-057E3756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96F-A4DA-4D40-AB7B-EF1EA252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9DA-8E25-4B75-9FC5-1A17FC8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099-1FFA-49BE-BBA4-6AEDDBB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DE0-653A-4EF9-8247-2131C47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9CFA-E0F8-40F6-B17C-3BEF9841C6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h.gov.uk/enhancedrecover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dh.gov.uk/en/Healthcare/Electivecare/Enhancedrecovery/DH_115638" TargetMode="External"/><Relationship Id="rId4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nsight/departments/Projects/QEP/Pages/home.aspx" TargetMode="External"/><Relationship Id="rId3" Type="http://schemas.openxmlformats.org/officeDocument/2006/relationships/hyperlink" Target="http://insight/departments/Projects/QEP/Pages/home.aspx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817280"/>
            <a:ext cx="8351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hanced Recovery Program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e5"/>
                </a:solidFill>
                <a:latin typeface="Arial"/>
              </a:rPr>
              <a:t>Helping patients to get better sooner after surgery’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o improve the quality of patients care by improving their experience</a:t>
            </a:r>
            <a:br>
              <a:rPr sz="32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d clinical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165720"/>
            <a:ext cx="89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-learning module will take 20 minutes and there will be a short assessment at th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259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CB3A-4594-4A1F-B4BE-60E4A69E95BE}" type="slidenum">
              <a:rPr b="1" lang="en-CA" sz="20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9235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084720" y="22860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to consider for Surg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.cover.gif"/>
          <p:cNvPicPr/>
          <p:nvPr/>
        </p:nvPicPr>
        <p:blipFill>
          <a:blip r:embed="rId2"/>
          <a:stretch/>
        </p:blipFill>
        <p:spPr>
          <a:xfrm>
            <a:off x="1389240" y="609480"/>
            <a:ext cx="1785600" cy="257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6446880"/>
            <a:ext cx="47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97720"/>
            <a:ext cx="87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259c2"/>
                </a:solidFill>
                <a:latin typeface="Arial"/>
              </a:rPr>
              <a:t>Fit for Surgery? Mythen MG. Anesthesia and Analgesia: April and Ma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92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key drivers for change within the quality and safety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linical quality, patient safety and clinci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 with CQUINS and PbR tarr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we measur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ect high quality data to support practic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what ar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(compliance with the clinical path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(complic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ient experience (satisf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, evaluate, refine and embed change based on evidence of own practice.  Benefits realisation can take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 for Sustai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nge is Clinically Led with Senior Management Sup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nical leadership is crucial for successful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ders are respected role models who can influence peers and other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lvement and engagement of all members within the MDT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ject management, Change management, Faciliators, , senior management support and key stakeholder support and engagement is an ongoing process, and not just at the outset of the implementatio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hos of the Clinical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lebrate the success of your work and achie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ow mutual respect and value the different and complementary roles of the MDT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age in the top tips for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he ‘can do’ culture that empowers and enables clinical teams to test new ways of working, without fear, risk or b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are the strong relationships between managers and clinicians with quality &amp; safety being high on the executive ag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41240" y="34596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60080"/>
            <a:ext cx="799308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Benefits from Informed 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(shared) decision making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3280" y="1585440"/>
            <a:ext cx="70815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cision aids provi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to patients in making the best decision for their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to help them understand whether to have a diagnostic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of their condition and the progression of their dis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atment options available to them, the side effects and benefits of each o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bout the issues that are most important to them/their p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keholder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guide to stakeholder analysis and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S Institute for Innovation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ndbook of Quality and Service improvement Tools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3 Stakeholder and Us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t is important at UCLH and n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entury Gothic"/>
              </a:rPr>
              <a:t>What else is ER align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98880" y="1600200"/>
            <a:ext cx="4750560" cy="4416120"/>
            <a:chOff x="2198880" y="1600200"/>
            <a:chExt cx="4750560" cy="4416120"/>
          </a:xfrm>
        </p:grpSpPr>
        <p:sp>
          <p:nvSpPr>
            <p:cNvPr id="112" name="_s131079"/>
            <p:cNvSpPr/>
            <p:nvPr/>
          </p:nvSpPr>
          <p:spPr>
            <a:xfrm flipH="1" flipV="1">
              <a:off x="3719880" y="2912040"/>
              <a:ext cx="504360" cy="55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1080"/>
            <p:cNvSpPr/>
            <p:nvPr/>
          </p:nvSpPr>
          <p:spPr>
            <a:xfrm>
              <a:off x="2835000" y="2010600"/>
              <a:ext cx="1084320" cy="102060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CA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1081"/>
            <p:cNvSpPr/>
            <p:nvPr/>
          </p:nvSpPr>
          <p:spPr>
            <a:xfrm flipH="1" flipV="1">
              <a:off x="3270960" y="3649680"/>
              <a:ext cx="768960" cy="12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1082"/>
            <p:cNvSpPr/>
            <p:nvPr/>
          </p:nvSpPr>
          <p:spPr>
            <a:xfrm>
              <a:off x="2198880" y="3046680"/>
              <a:ext cx="1084320" cy="1020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p Tip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1083"/>
            <p:cNvSpPr/>
            <p:nvPr/>
          </p:nvSpPr>
          <p:spPr>
            <a:xfrm flipH="1">
              <a:off x="3430800" y="4114800"/>
              <a:ext cx="67428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1084"/>
            <p:cNvSpPr/>
            <p:nvPr/>
          </p:nvSpPr>
          <p:spPr>
            <a:xfrm>
              <a:off x="2419920" y="4226760"/>
              <a:ext cx="1084320" cy="10198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Actual B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r>
                <a:rPr b="1" lang="en-GB" sz="17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1085"/>
            <p:cNvSpPr/>
            <p:nvPr/>
          </p:nvSpPr>
          <p:spPr>
            <a:xfrm flipH="1">
              <a:off x="4125240" y="4336560"/>
              <a:ext cx="263880" cy="69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31086"/>
            <p:cNvSpPr/>
            <p:nvPr/>
          </p:nvSpPr>
          <p:spPr>
            <a:xfrm>
              <a:off x="3394800" y="4995720"/>
              <a:ext cx="1084320" cy="1020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ur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pensing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31087"/>
            <p:cNvSpPr/>
            <p:nvPr/>
          </p:nvSpPr>
          <p:spPr>
            <a:xfrm>
              <a:off x="4758840" y="4336560"/>
              <a:ext cx="268920" cy="68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1088"/>
            <p:cNvSpPr/>
            <p:nvPr/>
          </p:nvSpPr>
          <p:spPr>
            <a:xfrm>
              <a:off x="4668480" y="4995720"/>
              <a:ext cx="1084680" cy="1020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tocol Le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1089"/>
            <p:cNvSpPr/>
            <p:nvPr/>
          </p:nvSpPr>
          <p:spPr>
            <a:xfrm>
              <a:off x="5040000" y="4113000"/>
              <a:ext cx="676440" cy="36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1090"/>
            <p:cNvSpPr/>
            <p:nvPr/>
          </p:nvSpPr>
          <p:spPr>
            <a:xfrm>
              <a:off x="5644080" y="4224600"/>
              <a:ext cx="1084320" cy="1019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Ticke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1091"/>
            <p:cNvSpPr/>
            <p:nvPr/>
          </p:nvSpPr>
          <p:spPr>
            <a:xfrm flipV="1">
              <a:off x="5103360" y="3642120"/>
              <a:ext cx="768960" cy="12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1092"/>
            <p:cNvSpPr/>
            <p:nvPr/>
          </p:nvSpPr>
          <p:spPr>
            <a:xfrm>
              <a:off x="5864760" y="3044520"/>
              <a:ext cx="1084680" cy="10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ou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1093"/>
            <p:cNvSpPr/>
            <p:nvPr/>
          </p:nvSpPr>
          <p:spPr>
            <a:xfrm flipV="1">
              <a:off x="4919040" y="2907000"/>
              <a:ext cx="50148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1094"/>
            <p:cNvSpPr/>
            <p:nvPr/>
          </p:nvSpPr>
          <p:spPr>
            <a:xfrm>
              <a:off x="5226840" y="2008440"/>
              <a:ext cx="1084320" cy="1019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oductiv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ar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1095"/>
            <p:cNvSpPr/>
            <p:nvPr/>
          </p:nvSpPr>
          <p:spPr>
            <a:xfrm flipV="1">
              <a:off x="4571640" y="2617200"/>
              <a:ext cx="0" cy="73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1096"/>
            <p:cNvSpPr/>
            <p:nvPr/>
          </p:nvSpPr>
          <p:spPr>
            <a:xfrm>
              <a:off x="4030920" y="1600200"/>
              <a:ext cx="1084320" cy="1019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Pre – 11 am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schar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1097"/>
            <p:cNvSpPr/>
            <p:nvPr/>
          </p:nvSpPr>
          <p:spPr>
            <a:xfrm>
              <a:off x="4030920" y="3352680"/>
              <a:ext cx="1084320" cy="1020600"/>
            </a:xfrm>
            <a:prstGeom prst="ellipse">
              <a:avLst/>
            </a:prstGeom>
            <a:solidFill>
              <a:srgbClr val="e1bd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RP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at investment may be requ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Diagram 6"/>
          <p:cNvGrpSpPr/>
          <p:nvPr/>
        </p:nvGrpSpPr>
        <p:grpSpPr>
          <a:xfrm>
            <a:off x="525600" y="1497960"/>
            <a:ext cx="6268680" cy="4934880"/>
            <a:chOff x="525600" y="1497960"/>
            <a:chExt cx="6268680" cy="4934880"/>
          </a:xfrm>
        </p:grpSpPr>
        <p:sp>
          <p:nvSpPr>
            <p:cNvPr id="135" name="_s129031"/>
            <p:cNvSpPr/>
            <p:nvPr/>
          </p:nvSpPr>
          <p:spPr>
            <a:xfrm flipH="1" flipV="1">
              <a:off x="385560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29032"/>
            <p:cNvSpPr/>
            <p:nvPr/>
          </p:nvSpPr>
          <p:spPr>
            <a:xfrm>
              <a:off x="2927160" y="256716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29033"/>
            <p:cNvSpPr/>
            <p:nvPr/>
          </p:nvSpPr>
          <p:spPr>
            <a:xfrm flipH="1">
              <a:off x="35384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29034"/>
            <p:cNvSpPr/>
            <p:nvPr/>
          </p:nvSpPr>
          <p:spPr>
            <a:xfrm>
              <a:off x="2450880" y="3719880"/>
              <a:ext cx="1085760" cy="10857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29035"/>
            <p:cNvSpPr/>
            <p:nvPr/>
          </p:nvSpPr>
          <p:spPr>
            <a:xfrm flipH="1">
              <a:off x="385560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29036"/>
            <p:cNvSpPr/>
            <p:nvPr/>
          </p:nvSpPr>
          <p:spPr>
            <a:xfrm>
              <a:off x="2928600" y="4870800"/>
              <a:ext cx="1086120" cy="10857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unic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29037"/>
            <p:cNvSpPr/>
            <p:nvPr/>
          </p:nvSpPr>
          <p:spPr>
            <a:xfrm>
              <a:off x="4622400" y="4802400"/>
              <a:ext cx="0" cy="5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29038"/>
            <p:cNvSpPr/>
            <p:nvPr/>
          </p:nvSpPr>
          <p:spPr>
            <a:xfrm>
              <a:off x="4081320" y="5346720"/>
              <a:ext cx="1085760" cy="1086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atic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proa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9039"/>
            <p:cNvSpPr/>
            <p:nvPr/>
          </p:nvSpPr>
          <p:spPr>
            <a:xfrm>
              <a:off x="5005080" y="464364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9040"/>
            <p:cNvSpPr/>
            <p:nvPr/>
          </p:nvSpPr>
          <p:spPr>
            <a:xfrm>
              <a:off x="5232240" y="4869000"/>
              <a:ext cx="1085760" cy="1085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am-work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9041"/>
            <p:cNvSpPr/>
            <p:nvPr/>
          </p:nvSpPr>
          <p:spPr>
            <a:xfrm>
              <a:off x="5163840" y="4260960"/>
              <a:ext cx="54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9042"/>
            <p:cNvSpPr/>
            <p:nvPr/>
          </p:nvSpPr>
          <p:spPr>
            <a:xfrm>
              <a:off x="5708520" y="3718080"/>
              <a:ext cx="1085760" cy="1085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ng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kil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29043"/>
            <p:cNvSpPr/>
            <p:nvPr/>
          </p:nvSpPr>
          <p:spPr>
            <a:xfrm flipV="1">
              <a:off x="5005080" y="3493800"/>
              <a:ext cx="38412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29044"/>
            <p:cNvSpPr/>
            <p:nvPr/>
          </p:nvSpPr>
          <p:spPr>
            <a:xfrm>
              <a:off x="5230440" y="2567160"/>
              <a:ext cx="1086120" cy="10857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ad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gagement &amp;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abili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29045"/>
            <p:cNvSpPr/>
            <p:nvPr/>
          </p:nvSpPr>
          <p:spPr>
            <a:xfrm flipV="1">
              <a:off x="4622400" y="3176280"/>
              <a:ext cx="0" cy="54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29046"/>
            <p:cNvSpPr/>
            <p:nvPr/>
          </p:nvSpPr>
          <p:spPr>
            <a:xfrm>
              <a:off x="4079520" y="2090880"/>
              <a:ext cx="1086120" cy="10857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cu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it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29047"/>
            <p:cNvSpPr/>
            <p:nvPr/>
          </p:nvSpPr>
          <p:spPr>
            <a:xfrm>
              <a:off x="4079520" y="3719880"/>
              <a:ext cx="1086120" cy="108576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hanced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ve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"/>
            <p:cNvSpPr/>
            <p:nvPr/>
          </p:nvSpPr>
          <p:spPr>
            <a:xfrm rot="20661000">
              <a:off x="540000" y="2070360"/>
              <a:ext cx="43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  <a:ea typeface="Times New Roman"/>
                </a:rPr>
                <a:t>Finance is not the only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356760"/>
            <a:ext cx="511812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entury Gothic"/>
              </a:rPr>
              <a:t>National program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to SHAs to lead a local spread and adoption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ive support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sit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h.gov.uk/enhanced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ting emergent evidence working with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inion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keholder engagement with national bodies to embed enhanced recovery as the standard mod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icy alignment to support local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I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hanced 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t is important at UCLH and n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n it for the patient, MDT, hospital, community and m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it for Pat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ral from Prima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ealth problems are identified &amp; managed to enable the patient to be in the best possible condition f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evidence based management during and after surg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mobilisation and timely discharge for the best rehabilitation with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Recovery for Pati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4950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m a partner with you in their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he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their questions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m for treatment and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m moving soon afte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not gain if their in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them to behave as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fidence to go home and get in touch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decision about me without m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616680" y="6858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dience: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609480" y="121932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d Recovery is a new way of improving the experience and well-being of patients who need major surge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helps people to recover sooner so that life can return to normal as quickly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gives people a better overall experience due to higher quality care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lets people choose what’s best for them throughout the course of their treatment with help from their GP and the wider healthcare team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No decision about me without me.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ny people who have experienced Enhanced Recovery say that it makes a hospital stay much less str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ER Logo.jpg"/>
          <p:cNvPicPr/>
          <p:nvPr/>
        </p:nvPicPr>
        <p:blipFill>
          <a:blip r:embed="rId1"/>
          <a:stretch/>
        </p:blipFill>
        <p:spPr>
          <a:xfrm>
            <a:off x="7848720" y="6226200"/>
            <a:ext cx="1143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Tips to Enhance MDT 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Disciplinary Tea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 patients a better overall experience through higher quality care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roduces innovative best practices that empower and motivat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celerates the clinical decision-making process by empowering MD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n’t increase MDT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sures the most-efficient use of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for provide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safety and involvement and meets Care Quality Commiss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job satisfaction of Multi-disciplinary Teams through better ways of working and improved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issio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hances the reputation of the healthcar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patients recover sooner from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practice is day surgery or an Enhanced Recovery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mproves patient experiences through increased partnership and empowerme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No decision about me without m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otivates medical teams through best practice, empowerment and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demand on resources such as critical care, surgical beds and patient uptake of proced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263160"/>
            <a:ext cx="6049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i="1" lang="ja-JP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i="1" lang="en-GB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in it for Primary Ca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patients a better overall experience through higher quality care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uts GPs in control of commissioning the right pathways for thei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ier patient discharge doesn’t create extra workload for primary or social car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mproves efficiency and productivity whilst improving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and patients work in partnership through informed decision-making and great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inically proven approach to faster patien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 – Greatest Challenges – Opportunities for Commissio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tness for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uly informed cons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obust discharg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Enhance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y ro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ssential Ro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pon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uthority to sanction change (organisational  alignment /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nef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nge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ilitate change, require knowledge, skills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hamp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ected opinion leaders who positively promo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ea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ead by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derstanding your current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042920" y="1916280"/>
            <a:ext cx="7239240" cy="4225680"/>
            <a:chOff x="1042920" y="1916280"/>
            <a:chExt cx="7239240" cy="4225680"/>
          </a:xfrm>
        </p:grpSpPr>
        <p:sp>
          <p:nvSpPr>
            <p:cNvPr id="191" name="AutoShape 5"/>
            <p:cNvSpPr/>
            <p:nvPr/>
          </p:nvSpPr>
          <p:spPr>
            <a:xfrm>
              <a:off x="1042920" y="1916280"/>
              <a:ext cx="7239240" cy="422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1112040" y="2403000"/>
              <a:ext cx="2935800" cy="81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1247760" y="2455920"/>
              <a:ext cx="2733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dentify elements in place on enhanced recovery pathway ma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1112040" y="3376080"/>
              <a:ext cx="2935800" cy="75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1179360" y="3430800"/>
              <a:ext cx="2868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dit of compliance with clinical elements on an individual patient ba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5278680" y="2617920"/>
              <a:ext cx="2933280" cy="488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5346360" y="2617560"/>
              <a:ext cx="2729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s map / Walk the patient jou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5278680" y="3214080"/>
              <a:ext cx="2933280" cy="48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3"/>
            <p:cNvSpPr/>
            <p:nvPr/>
          </p:nvSpPr>
          <p:spPr>
            <a:xfrm>
              <a:off x="5413680" y="332244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ck patient journe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3025080" y="4675680"/>
              <a:ext cx="3344040" cy="121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"/>
            <p:cNvSpPr/>
            <p:nvPr/>
          </p:nvSpPr>
          <p:spPr>
            <a:xfrm>
              <a:off x="3025440" y="4676760"/>
              <a:ext cx="33436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 Experi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gth of St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-oper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dmiss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ication r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6"/>
            <p:cNvSpPr/>
            <p:nvPr/>
          </p:nvSpPr>
          <p:spPr>
            <a:xfrm>
              <a:off x="104292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INTERVEN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7"/>
            <p:cNvSpPr/>
            <p:nvPr/>
          </p:nvSpPr>
          <p:spPr>
            <a:xfrm>
              <a:off x="5121360" y="2040120"/>
              <a:ext cx="30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NICAL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3160800" y="4295520"/>
              <a:ext cx="30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C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2477880" y="32140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6711480" y="310644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2454840" y="4153320"/>
              <a:ext cx="78372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6063120" y="3780360"/>
              <a:ext cx="62712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6193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nderstanding your curr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0920" y="1803240"/>
            <a:ext cx="1625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ferral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ima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549520" y="2644920"/>
            <a:ext cx="1308240" cy="62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1" action="ppaction://hlinksldjump"/>
              </a:rPr>
              <a:t>P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2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932280" y="3510000"/>
            <a:ext cx="128736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302080" y="4352760"/>
            <a:ext cx="12132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3" action="ppaction://hlinksldjump"/>
              </a:rPr>
              <a:t>Intr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4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626160" y="5191200"/>
            <a:ext cx="12700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5" action="ppaction://hlinksldjump"/>
              </a:rPr>
              <a:t>Po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Times New Roman"/>
                <a:hlinkClick r:id="rId6" action="ppaction://hlinksldjump"/>
              </a:rPr>
              <a:t>Ope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7951680" y="6058080"/>
            <a:ext cx="941400" cy="61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0" y="3716280"/>
            <a:ext cx="2138400" cy="2705040"/>
          </a:xfrm>
          <a:prstGeom prst="wedgeRoundRectCallout">
            <a:avLst>
              <a:gd name="adj1" fmla="val 75981"/>
              <a:gd name="adj2" fmla="val -7218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 operative health &amp; 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e-operative therapy instruction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3205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1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17448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2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40269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3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8621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MCj04398050000[1]"/>
          <p:cNvPicPr/>
          <p:nvPr/>
        </p:nvPicPr>
        <p:blipFill>
          <a:blip r:embed="rId11"/>
          <a:stretch/>
        </p:blipFill>
        <p:spPr>
          <a:xfrm rot="20949600">
            <a:off x="7039080" y="5717880"/>
            <a:ext cx="1108080" cy="6382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25"/>
          <p:cNvSpPr/>
          <p:nvPr/>
        </p:nvSpPr>
        <p:spPr>
          <a:xfrm>
            <a:off x="2340000" y="4292640"/>
            <a:ext cx="2519280" cy="2565360"/>
          </a:xfrm>
          <a:prstGeom prst="wedgeRoundRectCallout">
            <a:avLst>
              <a:gd name="adj1" fmla="val 68023"/>
              <a:gd name="adj2" fmla="val -35953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transverse incisions (abdom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of  regional  /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management Individualised goal directed fluid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6"/>
          <p:cNvSpPr/>
          <p:nvPr/>
        </p:nvSpPr>
        <p:spPr>
          <a:xfrm>
            <a:off x="6789600" y="1814400"/>
            <a:ext cx="2152800" cy="3078360"/>
          </a:xfrm>
          <a:prstGeom prst="wedgeRoundRectCallout">
            <a:avLst>
              <a:gd name="adj1" fmla="val -37240"/>
              <a:gd name="adj2" fmla="val 5959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voidance of  systemic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7"/>
          <p:cNvSpPr/>
          <p:nvPr/>
        </p:nvSpPr>
        <p:spPr>
          <a:xfrm>
            <a:off x="4791240" y="1747800"/>
            <a:ext cx="1933560" cy="169236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dmission on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HO Lo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/ reduced oral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8"/>
          <p:cNvSpPr/>
          <p:nvPr/>
        </p:nvSpPr>
        <p:spPr>
          <a:xfrm>
            <a:off x="4932360" y="5735520"/>
            <a:ext cx="1976400" cy="1122480"/>
          </a:xfrm>
          <a:prstGeom prst="wedgeRoundRectCallout">
            <a:avLst>
              <a:gd name="adj1" fmla="val 102689"/>
              <a:gd name="adj2" fmla="val -473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X when criteria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9"/>
          <p:cNvSpPr/>
          <p:nvPr/>
        </p:nvSpPr>
        <p:spPr>
          <a:xfrm>
            <a:off x="2590920" y="1797120"/>
            <a:ext cx="2112840" cy="798480"/>
          </a:xfrm>
          <a:prstGeom prst="wedgeRoundRectCallout">
            <a:avLst>
              <a:gd name="adj1" fmla="val -77875"/>
              <a:gd name="adj2" fmla="val 168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ptimising pre operative haemoglobin lev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anaging pre existing co morbidities e.g. diabe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rt-term inve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pport to change the pathway (e.g. service improvement, change manager, facilitator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aining – new skills e.g. pre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quipment – invest to 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cation/awar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nd out what is already in place &amp; go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ke the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Identifying the te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requires a number of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linica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care systems an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team to work across the patient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require technical and behavioural 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start with thinking about who to engage and how to structure the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nsequences of not do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05440" cy="57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9" name="Text Box 6"/>
          <p:cNvSpPr/>
          <p:nvPr/>
        </p:nvSpPr>
        <p:spPr>
          <a:xfrm>
            <a:off x="1058760" y="6284880"/>
            <a:ext cx="73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59c2"/>
                </a:solidFill>
                <a:latin typeface="Arial"/>
                <a:ea typeface="ＭＳ Ｐゴシック"/>
              </a:rPr>
              <a:t>For copies of the clinical evidence compendium or further information contac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http://www.dh.gov.uk/en/Healthcare/Electivecare/Enhancedrecovery/DH_115638</a:t>
            </a:r>
            <a:r>
              <a:rPr b="0" lang="en-US" sz="1200" spc="-1" strike="noStrike" u="sng">
                <a:solidFill>
                  <a:srgbClr val="3e3094"/>
                </a:solidFill>
                <a:uFillTx/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575400" y="1303200"/>
            <a:ext cx="2568600" cy="417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20200" y="402840"/>
            <a:ext cx="5653080" cy="6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Support 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5210280" y="2082960"/>
            <a:ext cx="239220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4541760" y="3282840"/>
            <a:ext cx="2181240" cy="3378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1030320" y="1414440"/>
            <a:ext cx="328752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principle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elective surgery with an innovative, high quality car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are in the optimal condition for trea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ients have a better care experience before, during and after their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is a role for everyo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6360" y="60336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ment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988920" y="1627200"/>
            <a:ext cx="3267000" cy="47973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4959360" y="2784600"/>
            <a:ext cx="378612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ting patient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c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nom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tting bureaucracy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2728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687920" y="1459080"/>
            <a:ext cx="368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re principles of enhanced recovery are aligned to the Health White Pap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ri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ice guidance and support –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mplement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nhanced Recovery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SH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Local Network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LH Implementatio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learning / DVD / Top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sight/departments/Projects/QEP/Pages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me.asp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ww.improvement.nhs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 S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nciples, elements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benefits of ERP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ivers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rent and futur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ction Pla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takehold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sting changes for improv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asur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Testing Changes for Improvement</a:t>
            </a: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Principles, elements and benefits of Enhanced Recovery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Drivers for Implementation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2c6"/>
                </a:solidFill>
                <a:latin typeface="Century Gothic"/>
              </a:rPr>
              <a:t>Mapping your pathway against the Enhanced Recovery Elements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</a:t>
            </a:r>
            <a:br>
              <a:rPr sz="36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t makes a difference to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6560" y="3106800"/>
            <a:ext cx="3446640" cy="247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51640" y="2133720"/>
            <a:ext cx="3225600" cy="3671640"/>
          </a:xfrm>
          <a:prstGeom prst="wedgeRoundRectCallout">
            <a:avLst>
              <a:gd name="adj1" fmla="val -109694"/>
              <a:gd name="adj2" fmla="val 16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two hip replacements last year. One in June and one in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one was much better, the service is fabulou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June there was no Enhanced Recovery Programme in place but in December there w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2c6"/>
                </a:solidFill>
                <a:latin typeface="Century Gothic"/>
              </a:rPr>
              <a:t>Action planning and potential challenges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0072c6"/>
                </a:solidFill>
                <a:latin typeface="Century Gothic"/>
              </a:rPr>
              <a:t>Sophia Mavromma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4"/>
          <p:cNvSpPr/>
          <p:nvPr/>
        </p:nvSpPr>
        <p:spPr>
          <a:xfrm>
            <a:off x="0" y="260280"/>
            <a:ext cx="7020000" cy="865080"/>
          </a:xfrm>
          <a:prstGeom prst="rect">
            <a:avLst/>
          </a:pr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6" descr="View of University College Hospital"/>
          <p:cNvPicPr/>
          <p:nvPr/>
        </p:nvPicPr>
        <p:blipFill>
          <a:blip r:embed="rId1"/>
          <a:stretch/>
        </p:blipFill>
        <p:spPr>
          <a:xfrm>
            <a:off x="6948360" y="260280"/>
            <a:ext cx="1901880" cy="865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2c6"/>
                </a:solidFill>
                <a:latin typeface="Century Gothic"/>
              </a:rPr>
              <a:t>Measuring Outcomes</a:t>
            </a:r>
            <a:br>
              <a:rPr sz="4400"/>
            </a:br>
            <a:r>
              <a:rPr b="1" lang="en-US" sz="3600" spc="-1" strike="noStrike">
                <a:solidFill>
                  <a:srgbClr val="0072c6"/>
                </a:solidFill>
                <a:latin typeface="Century Gothic"/>
              </a:rPr>
              <a:t>Bella Tal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Recovery Pathwa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Implementation &amp; Sustainabilit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319280" cy="2470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5157720"/>
            <a:ext cx="2737080" cy="93528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93080" y="2205000"/>
            <a:ext cx="1368360" cy="934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23280" y="5300640"/>
            <a:ext cx="10810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21000"/>
            <a:ext cx="1873440" cy="86364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494172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1989000"/>
            <a:ext cx="86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198900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64360" y="4724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77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80000" y="17002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35280" y="466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P implemen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44496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QUI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31880" y="118800"/>
            <a:ext cx="77277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efits Reali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Diagram 3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826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43588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tential capacity releas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6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n Patient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Trad and ER Pathway.bmp"/>
          <p:cNvPicPr/>
          <p:nvPr/>
        </p:nvPicPr>
        <p:blipFill>
          <a:blip r:embed="rId1"/>
          <a:srcRect l="1775" t="1392" r="1775" b="1801"/>
          <a:stretch/>
        </p:blipFill>
        <p:spPr>
          <a:xfrm>
            <a:off x="289080" y="1557360"/>
            <a:ext cx="8604000" cy="504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4"/>
          <p:cNvSpPr/>
          <p:nvPr/>
        </p:nvSpPr>
        <p:spPr>
          <a:xfrm>
            <a:off x="5513400" y="5203800"/>
            <a:ext cx="294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ditional pathwa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£200 per day pp)= £2,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Reduction ER = £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807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Influencing Patient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4720" y="1574280"/>
            <a:ext cx="38066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rastable"/>
          <p:cNvPicPr/>
          <p:nvPr/>
        </p:nvPicPr>
        <p:blipFill>
          <a:blip r:embed="rId1"/>
          <a:stretch/>
        </p:blipFill>
        <p:spPr>
          <a:xfrm>
            <a:off x="1434960" y="1738440"/>
            <a:ext cx="6496200" cy="4338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19640" y="537372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NAH - Could this slide be combined in some way with the next one (mountain).  Will need to include reference but we can do thi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llet’s Theory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core elem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different stages of car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ther health problems are identified &amp; managed to enable the patient to be in the best possible condition for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possible evidence based management is given to the patient during and after sur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s are encouraged with early mobilisation and timely discharge for the best rehabilitation with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678960"/>
            <a:ext cx="896472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Enhanced Recovery Elements at key stages of the path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8089920" y="6512040"/>
            <a:ext cx="94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69D9-CA27-4522-BD96-2F355DBEA100}" type="slidenum">
              <a:rPr b="0" lang="en-CA" sz="900" spc="-1" strike="noStrike">
                <a:solidFill>
                  <a:srgbClr val="00996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85880" y="1635120"/>
            <a:ext cx="14335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erral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mary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49520" y="2476440"/>
            <a:ext cx="1081080" cy="6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P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30480" y="3341520"/>
            <a:ext cx="116712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302080" y="4184640"/>
            <a:ext cx="10828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 action="ppaction://hlinksldjump"/>
              </a:rPr>
              <a:t>In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626160" y="5022720"/>
            <a:ext cx="106848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 action="ppaction://hlinksldjump"/>
              </a:rPr>
              <a:t>Pos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 action="ppaction://hlinksldjump"/>
              </a:rPr>
              <a:t>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951680" y="5889600"/>
            <a:ext cx="806400" cy="6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733320" y="3697200"/>
            <a:ext cx="2347920" cy="1865520"/>
          </a:xfrm>
          <a:prstGeom prst="wedgeRoundRectCallout">
            <a:avLst>
              <a:gd name="adj1" fmla="val 41675"/>
              <a:gd name="adj2" fmla="val -7147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health / medic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Informed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re operative health &amp; risk assessment - CP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PT information and expectation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DX planning (ED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MCj04398050000[1]"/>
          <p:cNvPicPr/>
          <p:nvPr/>
        </p:nvPicPr>
        <p:blipFill>
          <a:blip r:embed="rId7"/>
          <a:stretch/>
        </p:blipFill>
        <p:spPr>
          <a:xfrm rot="20949600">
            <a:off x="1636560" y="21524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MCj04398050000[1]"/>
          <p:cNvPicPr/>
          <p:nvPr/>
        </p:nvPicPr>
        <p:blipFill>
          <a:blip r:embed="rId8"/>
          <a:stretch/>
        </p:blipFill>
        <p:spPr>
          <a:xfrm rot="20949600">
            <a:off x="3019320" y="300636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MCj04398050000[1]"/>
          <p:cNvPicPr/>
          <p:nvPr/>
        </p:nvPicPr>
        <p:blipFill>
          <a:blip r:embed="rId9"/>
          <a:stretch/>
        </p:blipFill>
        <p:spPr>
          <a:xfrm rot="20949600">
            <a:off x="4390920" y="3858840"/>
            <a:ext cx="1108080" cy="6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MCj04398050000[1]"/>
          <p:cNvPicPr/>
          <p:nvPr/>
        </p:nvPicPr>
        <p:blipFill>
          <a:blip r:embed="rId10"/>
          <a:stretch/>
        </p:blipFill>
        <p:spPr>
          <a:xfrm rot="20949600">
            <a:off x="5713560" y="4694040"/>
            <a:ext cx="1108080" cy="63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MCj04398050000[1]"/>
          <p:cNvPicPr/>
          <p:nvPr/>
        </p:nvPicPr>
        <p:blipFill>
          <a:blip r:embed="rId11"/>
          <a:stretch/>
        </p:blipFill>
        <p:spPr>
          <a:xfrm rot="20949600">
            <a:off x="7040520" y="5549760"/>
            <a:ext cx="1106640" cy="638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6"/>
          <p:cNvSpPr/>
          <p:nvPr/>
        </p:nvSpPr>
        <p:spPr>
          <a:xfrm>
            <a:off x="3147840" y="4581360"/>
            <a:ext cx="2084400" cy="2160720"/>
          </a:xfrm>
          <a:prstGeom prst="wedgeRoundRectCallout">
            <a:avLst>
              <a:gd name="adj1" fmla="val 68124"/>
              <a:gd name="adj2" fmla="val -39861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imally invasive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of transverse in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No NG tube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Use of LA with se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pidural management (inc thorac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7"/>
          <p:cNvSpPr/>
          <p:nvPr/>
        </p:nvSpPr>
        <p:spPr>
          <a:xfrm>
            <a:off x="6800760" y="1779480"/>
            <a:ext cx="2114640" cy="2494080"/>
          </a:xfrm>
          <a:prstGeom prst="wedgeRoundRectCallout">
            <a:avLst>
              <a:gd name="adj1" fmla="val -37597"/>
              <a:gd name="adj2" fmla="val 7991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lanned mob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apid hydration &amp; nour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ppropriate IV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wound d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No NG (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Catheters removed 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Regular oral analg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Paracetamol and NS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  <a:ea typeface="Arial"/>
              </a:rPr>
              <a:t>Avoidance of opiate-based analgesia where possible or administered top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8"/>
          <p:cNvSpPr/>
          <p:nvPr/>
        </p:nvSpPr>
        <p:spPr>
          <a:xfrm>
            <a:off x="4792680" y="1579680"/>
            <a:ext cx="1932120" cy="1692000"/>
          </a:xfrm>
          <a:prstGeom prst="wedgeRoundRectCallout">
            <a:avLst>
              <a:gd name="adj1" fmla="val -68574"/>
              <a:gd name="adj2" fmla="val 53472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ed Fluid Hyd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Reduced sta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/ reduced bowel preparation ( bowel surge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9"/>
          <p:cNvSpPr/>
          <p:nvPr/>
        </p:nvSpPr>
        <p:spPr>
          <a:xfrm>
            <a:off x="5292720" y="5735520"/>
            <a:ext cx="1949400" cy="927360"/>
          </a:xfrm>
          <a:prstGeom prst="wedgeRoundRectCallout">
            <a:avLst>
              <a:gd name="adj1" fmla="val 86388"/>
              <a:gd name="adj2" fmla="val 479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X on plann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rapy support (stoma, phys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"/>
              </a:rPr>
              <a:t>24hr telephone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0"/>
          <p:cNvSpPr/>
          <p:nvPr/>
        </p:nvSpPr>
        <p:spPr>
          <a:xfrm>
            <a:off x="2579760" y="1450800"/>
            <a:ext cx="2112840" cy="943200"/>
          </a:xfrm>
          <a:prstGeom prst="wedgeRoundRectCallout">
            <a:avLst>
              <a:gd name="adj1" fmla="val -67615"/>
              <a:gd name="adj2" fmla="val -6226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Optimising pre operative haemoglobin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Managing pre existing co morbidities e.g. 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1"/>
          <p:cNvSpPr/>
          <p:nvPr/>
        </p:nvSpPr>
        <p:spPr>
          <a:xfrm flipH="1">
            <a:off x="7900920" y="4622760"/>
            <a:ext cx="1006560" cy="711360"/>
          </a:xfrm>
          <a:prstGeom prst="wedgeRoundRectCallout">
            <a:avLst>
              <a:gd name="adj1" fmla="val -12907"/>
              <a:gd name="adj2" fmla="val 126319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000" indent="-810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Audit &amp; 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09:39:24Z</dcterms:created>
  <dc:creator>btalwar</dc:creator>
  <dc:description/>
  <dc:language>en-US</dc:language>
  <cp:lastModifiedBy>LHollins</cp:lastModifiedBy>
  <dcterms:modified xsi:type="dcterms:W3CDTF">2012-03-30T16:45:28Z</dcterms:modified>
  <cp:revision>21</cp:revision>
  <dc:subject/>
  <dc:title>Enhanced Recovery e-learning module</dc:title>
</cp:coreProperties>
</file>