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.jpeg" ContentType="image/jpeg"/>
  <Override PartName="/ppt/media/image25.wmf" ContentType="image/x-wmf"/>
  <Override PartName="/ppt/media/image27.wmf" ContentType="image/x-wmf"/>
  <Override PartName="/ppt/media/image16.png" ContentType="image/png"/>
  <Override PartName="/ppt/media/image26.jpeg" ContentType="image/jpeg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B33A-5FFC-48D9-8262-09463D26BD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291743-954F-48F0-B659-AC3942888D2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DC8D-5B59-4DAC-9BDE-56E72ED257E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081080" y="86832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09360" y="4722480"/>
            <a:ext cx="49863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46E9-B437-406B-A837-C2FA2E9C216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RE TO TRANSFORMING CARE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EB5B-8CAE-481A-8CD7-4BB4C099A6A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079640" y="86832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09360" y="4722480"/>
            <a:ext cx="49863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IMPAC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Abdominal Hystrectom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une 2010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b 2011: Move to same day admission for elective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pril / May 2011: ERP star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Prostectom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pt 2010: minimal invasive surgery (robotics) star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pt 2010: Move to same day admission for elective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IMPROVEM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Primary Hip Replacem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c 2010: Patient education group and post op follow up star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pril – Current: Sustainability is an issue relating to integrated Multidisciplinary 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: Reduced variation since starting ERP suggesting that majority of the patients are following the path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Colectom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urrent: Ongoing issues with sustain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b 2011: CQUINS started refocussing E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 both improvement areas there will be an improvement pla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9F81-954A-444A-8CF4-4DF141D4139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079640" y="86832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09360" y="4722480"/>
            <a:ext cx="49863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13BE-B544-4460-BFAA-D21D2B73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A42F-7250-46D6-AEC5-1669EF54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AD18-4BD1-4895-B31F-8BFB048A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F5D8-0CC2-40AF-9C88-86A5D991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7676-E199-4646-8976-8CDD313B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8535-FFA4-4D1A-A6AC-FF712D7B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D938-582E-4A55-97C8-BE1518B7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04EA-9BAD-42B0-9B61-F3F4A404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6932-420C-438C-9F32-10330C42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D21F-8D29-4E9E-B955-B4168160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EE19-32F0-4473-B2B6-56F324B8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B45D-AB34-4302-A584-F3C61EBB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1E21-A0D0-45DE-9CBF-B66FE5D809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nsight/departments/Projects/QEP/Pages/home.aspx" TargetMode="External"/><Relationship Id="rId3" Type="http://schemas.openxmlformats.org/officeDocument/2006/relationships/hyperlink" Target="http://insight/departments/Projects/QEP/Pages/home.aspx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hanced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 Star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hysical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3"/>
          <p:cNvGraphicFramePr/>
          <p:nvPr/>
        </p:nvGraphicFramePr>
        <p:xfrm>
          <a:off x="1779480" y="1774800"/>
          <a:ext cx="5585040" cy="417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9480" y="1774800"/>
                    <a:ext cx="558504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nical evidence compell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"/>
          <p:cNvPicPr/>
          <p:nvPr/>
        </p:nvPicPr>
        <p:blipFill>
          <a:blip r:embed="rId2"/>
          <a:stretch/>
        </p:blipFill>
        <p:spPr>
          <a:xfrm>
            <a:off x="720720" y="1600200"/>
            <a:ext cx="351000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9" name="Picture 10" descr=""/>
          <p:cNvPicPr/>
          <p:nvPr/>
        </p:nvPicPr>
        <p:blipFill>
          <a:blip r:embed="rId3"/>
          <a:stretch/>
        </p:blipFill>
        <p:spPr>
          <a:xfrm>
            <a:off x="4910040" y="1600200"/>
            <a:ext cx="351324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lorectal Surgery: Length of stay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arge Intestine: Major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685800" y="180504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80504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Benefits being realised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Diagram 3" descr=""/>
          <p:cNvPicPr/>
          <p:nvPr/>
        </p:nvPicPr>
        <p:blipFill>
          <a:blip r:embed="rId2"/>
          <a:stretch/>
        </p:blipFill>
        <p:spPr>
          <a:xfrm>
            <a:off x="2482920" y="1701720"/>
            <a:ext cx="41767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lti-Disciplinary Team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give patients a better overall experience through higher quality care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roduces innovative best practices that empower and motivate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ccelerates the clinical decision-making process by empowering MD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n’t increase MDT work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ensures the most-efficient use of healthcar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practice is day surgery or an Enhanced Recovery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does it mean for provider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mproves patient safety and involvement and meets Care Quality Commission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duces demand on resources such as critical care, surgical beds and patient uptake of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creases job satisfaction of Multi-disciplinary Teams through better ways of working and improved patien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mproves the reputation of the healthcar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practice is day surgery or an Enhanced Recovery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rocess &amp; capacity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Trad and ER Pathway.bmp"/>
          <p:cNvPicPr/>
          <p:nvPr/>
        </p:nvPicPr>
        <p:blipFill>
          <a:blip r:embed="rId2"/>
          <a:srcRect l="1775" t="1392" r="1775" b="1801"/>
          <a:stretch/>
        </p:blipFill>
        <p:spPr>
          <a:xfrm>
            <a:off x="971640" y="1663560"/>
            <a:ext cx="720072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ission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enhances the reputation of the healthcar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elps patients recover sooner from 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practice is day surgery or an Enhanced Recovery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mproves patient experiences through increased partnership and empowermen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No decision about me without me.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otivates medical teams through best practice, empowerment and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duces demand on resources such as critical care, surgical beds and patient uptake of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rcRect l="21208" t="18512" r="24903" b="13585"/>
          <a:stretch/>
        </p:blipFill>
        <p:spPr>
          <a:xfrm>
            <a:off x="2154240" y="603360"/>
            <a:ext cx="5659560" cy="51926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 flipV="1" rot="10800000">
            <a:off x="2566800" y="-18720"/>
            <a:ext cx="457812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Verdana"/>
                <a:ea typeface="Arial"/>
              </a:rPr>
              <a:t>Trusts with varying experience of enhanced recovery pathway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807160" y="754200"/>
            <a:ext cx="2760480" cy="22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7140600" y="136440"/>
            <a:ext cx="1905120" cy="11455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North Ea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Gateshead NHS Foundation Trust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Newcastle Hospitals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City Hospitals Sunderland NHS Foundation Trust </a:t>
            </a:r>
            <a:r>
              <a:rPr b="0" lang="en-GB" sz="700" spc="-1" strike="noStrike">
                <a:solidFill>
                  <a:srgbClr val="6600cc"/>
                </a:solidFill>
                <a:latin typeface="Verdana"/>
                <a:ea typeface="Arial"/>
              </a:rPr>
              <a:t>(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6600cc"/>
                </a:solidFill>
                <a:latin typeface="Verdana"/>
                <a:ea typeface="Arial"/>
              </a:rPr>
              <a:t>Northumbira NHS Trust (</a:t>
            </a:r>
            <a:r>
              <a:rPr b="0" lang="en-GB" sz="700" spc="-1" strike="noStrike">
                <a:solidFill>
                  <a:srgbClr val="006600"/>
                </a:solidFill>
                <a:latin typeface="Verdana"/>
                <a:ea typeface="Arial"/>
              </a:rPr>
              <a:t>MSK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South Tees Hospitals NHS Foundation Trust (C,G,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98280" y="1938240"/>
            <a:ext cx="2880000" cy="8769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North We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Aintree University Hospitals NHS Foundation Trust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East Lancashire Hospitals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Hope Hospital, Salford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Wirral University Teaching Hospital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Aintree University Hospitals NHS Foundation Trust (C,M,UPGI,Li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6881760" y="1295280"/>
            <a:ext cx="2114640" cy="10900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Verdana"/>
                <a:ea typeface="Arial"/>
              </a:rPr>
              <a:t>Yorkshire &amp; The Humb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333399"/>
                </a:solidFill>
                <a:latin typeface="Verdana"/>
                <a:ea typeface="Arial"/>
              </a:rPr>
              <a:t>Sheffield Teaching Hospitals NHS Foundation Trust </a:t>
            </a:r>
            <a:r>
              <a:rPr b="0" lang="en-US" sz="700" spc="-1" strike="noStrike">
                <a:solidFill>
                  <a:srgbClr val="ff3399"/>
                </a:solidFill>
                <a:latin typeface="Verdana"/>
                <a:ea typeface="Arial"/>
              </a:rPr>
              <a:t>(G)</a:t>
            </a:r>
            <a:br>
              <a:rPr sz="700"/>
            </a:br>
            <a:r>
              <a:rPr b="0" lang="en-US" sz="700" spc="-1" strike="noStrike">
                <a:solidFill>
                  <a:srgbClr val="333399"/>
                </a:solidFill>
                <a:latin typeface="Verdana"/>
                <a:ea typeface="Arial"/>
              </a:rPr>
              <a:t>York Hospitals NHS Foundation Trust </a:t>
            </a: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US" sz="700" spc="-1" strike="noStrike">
                <a:solidFill>
                  <a:srgbClr val="333399"/>
                </a:solidFill>
                <a:latin typeface="Verdana"/>
                <a:ea typeface="Arial"/>
              </a:rPr>
              <a:t>Scarborough Healthcare NHS Trust </a:t>
            </a: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Leeds Teaching Hospitals NHS Trust (C,G)</a:t>
            </a:r>
            <a:br>
              <a:rPr sz="700"/>
            </a:b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Calderdale and Huddersfield NHS Foundation Trust (C,G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109440" y="2863800"/>
            <a:ext cx="3021120" cy="10389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West Midland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City Hospital NHS Trust, Birmingham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Good Hope Hospital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University Hospitals Birmingham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 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Birmingham Heartlands NHS Trust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University Hospital of North Staffordshire NHS Trust (C,U,G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Robert Jones &amp; Agnes Hunt NHS Tru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7461360" y="2347920"/>
            <a:ext cx="1535040" cy="10900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Verdana"/>
                <a:ea typeface="Arial"/>
              </a:rPr>
              <a:t>East Midla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333399"/>
                </a:solidFill>
                <a:latin typeface="Verdana"/>
                <a:ea typeface="Arial"/>
              </a:rPr>
              <a:t>Derby Hospitals NHS Foundation Trust </a:t>
            </a:r>
            <a:r>
              <a:rPr b="0" lang="en-US" sz="700" spc="-1" strike="noStrike">
                <a:solidFill>
                  <a:srgbClr val="ff3399"/>
                </a:solidFill>
                <a:latin typeface="Verdana"/>
                <a:ea typeface="Arial"/>
              </a:rPr>
              <a:t>(G)</a:t>
            </a:r>
            <a:br>
              <a:rPr sz="700"/>
            </a:br>
            <a:r>
              <a:rPr b="0" lang="en-US" sz="700" spc="-1" strike="noStrike">
                <a:solidFill>
                  <a:srgbClr val="333399"/>
                </a:solidFill>
                <a:latin typeface="Verdana"/>
                <a:ea typeface="Arial"/>
              </a:rPr>
              <a:t>Queen’s Medical Centre </a:t>
            </a: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US" sz="700" spc="-1" strike="noStrike">
                <a:solidFill>
                  <a:srgbClr val="333399"/>
                </a:solidFill>
                <a:latin typeface="Verdana"/>
                <a:ea typeface="Arial"/>
              </a:rPr>
              <a:t>Sherwood Forest Hospitals NHS Foundation Trust </a:t>
            </a: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(C) </a:t>
            </a:r>
            <a:r>
              <a:rPr b="0" lang="en-US" sz="700" spc="-1" strike="noStrike">
                <a:solidFill>
                  <a:srgbClr val="ff3399"/>
                </a:solidFill>
                <a:latin typeface="Verdana"/>
                <a:ea typeface="Arial"/>
              </a:rPr>
              <a:t>(G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The University Hospitals of Leicester NHS Trust (C,M,G,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7093080" y="3532320"/>
            <a:ext cx="1747800" cy="11966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East of Eng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Colchester Hospital University 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West Suffolk Hospital NHS Trust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Cambridge University Hospitals NHS Foundation Trust (Addenbrookes Hospital)</a:t>
            </a:r>
            <a:r>
              <a:rPr b="0" lang="en-GB" sz="700" spc="-1" strike="noStrike">
                <a:solidFill>
                  <a:srgbClr val="ff3399"/>
                </a:solidFill>
                <a:latin typeface="Verdana"/>
                <a:ea typeface="Arial"/>
              </a:rPr>
              <a:t>(G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West Hertfordshire Hospitals NHS Trust (C,M,G,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3594240" y="5383080"/>
            <a:ext cx="2930400" cy="12477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South East Coa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Brighton and Sussex University Hospital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Darent Valley Hospital (Dartford and Gravesham NHS Trust) 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Royal Surrey County Hospital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Worthing Hospital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East Kent Hospitals University NHS Foundation Trust (Queen Elizabeth, the Queen Mother Hospitals)</a:t>
            </a:r>
            <a:r>
              <a:rPr b="0" lang="en-GB" sz="700" spc="-1" strike="noStrike">
                <a:solidFill>
                  <a:srgbClr val="ff3399"/>
                </a:solidFill>
                <a:latin typeface="Verdana"/>
                <a:ea typeface="Arial"/>
              </a:rPr>
              <a:t>(G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Medway NHS Foundation Trust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Medway NHS Foundation Trust (C,M,G,U)</a:t>
            </a:r>
            <a:br>
              <a:rPr sz="700"/>
            </a:b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Brighton and Sussex University Hospitals (C,M,G,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6576840" y="4869000"/>
            <a:ext cx="2314800" cy="19425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Lond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Barnet &amp; Chase Farm Hospitals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Guy’s &amp; St Thomas’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Hillingdon Hospital NHS Trust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Imperial College Healthcare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South West London Elective Orthopaedic Centre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St George’s Healthcare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r>
              <a:rPr b="0" lang="en-GB" sz="700" spc="-1" strike="noStrike">
                <a:solidFill>
                  <a:srgbClr val="6600cc"/>
                </a:solidFill>
                <a:latin typeface="Verdana"/>
                <a:ea typeface="Arial"/>
              </a:rPr>
              <a:t>(U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St Mark’s Hospital (North West London Hospitals NHS Trust) 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The Whittington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UCLH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Whipps Cross University Hospital NHS Trust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 (C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The Hillingdon Hospital NHS Trust (C,G)</a:t>
            </a:r>
            <a:br>
              <a:rPr sz="700"/>
            </a:b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North Middlesex University Hospital NHS Trust (C,M,G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0" y="3941640"/>
            <a:ext cx="2367000" cy="17294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South Wes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North Devon Healthcare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South Devon Healthcare NHS Foundation Trust </a:t>
            </a:r>
            <a:br>
              <a:rPr sz="700"/>
            </a:b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r>
              <a:rPr b="0" lang="en-GB" sz="700" spc="-1" strike="noStrike">
                <a:solidFill>
                  <a:srgbClr val="ff3399"/>
                </a:solidFill>
                <a:latin typeface="Verdana"/>
                <a:ea typeface="Arial"/>
              </a:rPr>
              <a:t>(G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Royal Devon and Exeter NHS Foundation Trust </a:t>
            </a:r>
            <a:r>
              <a:rPr b="0" lang="en-GB" sz="700" spc="-1" strike="noStrike">
                <a:solidFill>
                  <a:srgbClr val="6600cc"/>
                </a:solidFill>
                <a:latin typeface="Verdana"/>
                <a:ea typeface="Arial"/>
              </a:rPr>
              <a:t>(U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Royal Bournemouth Hospital 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North Bristol NHS Trust (Southmead Hospital)</a:t>
            </a:r>
            <a:r>
              <a:rPr b="0" lang="en-GB" sz="700" spc="-1" strike="noStrike">
                <a:solidFill>
                  <a:srgbClr val="6600cc"/>
                </a:solidFill>
                <a:latin typeface="Verdana"/>
                <a:ea typeface="Arial"/>
              </a:rPr>
              <a:t>(U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Yeovil District Hospital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(M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Salisbury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Dorset County Hospital NHS Foundation Trust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 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Plymouth Hospitals NHS Trust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 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West Dorset NHS Trust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 (C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South Devon Healthcare NHS Foundation Trust (Torbay Hospital) (C,M,G,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0" y="5703840"/>
            <a:ext cx="3281400" cy="11412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900" spc="-1" strike="noStrike">
                <a:solidFill>
                  <a:srgbClr val="333399"/>
                </a:solidFill>
                <a:latin typeface="Verdana"/>
                <a:ea typeface="Arial"/>
              </a:rPr>
              <a:t>South Cent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Isle of Wight Healthcare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Milton Keynes Hospital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Royal Berkshire NHS Foundation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Portsmouth Hospitals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Southampton University Hospitals NHS Trust 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Oxford Ratcliffe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(C)</a:t>
            </a:r>
            <a:br>
              <a:rPr sz="700"/>
            </a:br>
            <a:r>
              <a:rPr b="0" lang="en-GB" sz="700" spc="-1" strike="noStrike">
                <a:solidFill>
                  <a:srgbClr val="333399"/>
                </a:solidFill>
                <a:latin typeface="Verdana"/>
                <a:ea typeface="Arial"/>
              </a:rPr>
              <a:t>NHHT</a:t>
            </a:r>
            <a:r>
              <a:rPr b="0" lang="en-GB" sz="700" spc="-1" strike="noStrike">
                <a:solidFill>
                  <a:srgbClr val="009900"/>
                </a:solidFill>
                <a:latin typeface="Verdana"/>
                <a:ea typeface="Arial"/>
              </a:rPr>
              <a:t> M)</a:t>
            </a: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Winchester &amp; Eastleigh NHS Trust (C,M,G)</a:t>
            </a:r>
            <a:br>
              <a:rPr sz="700"/>
            </a:br>
            <a:r>
              <a:rPr b="0" lang="en-GB" sz="700" spc="-1" strike="noStrike">
                <a:solidFill>
                  <a:srgbClr val="ff0000"/>
                </a:solidFill>
                <a:latin typeface="Verdana"/>
                <a:ea typeface="Arial"/>
              </a:rPr>
              <a:t>Royal Berkshire NHS Foundation Trust (C,M,G,U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8"/>
          <p:cNvSpPr/>
          <p:nvPr/>
        </p:nvSpPr>
        <p:spPr>
          <a:xfrm flipV="1">
            <a:off x="2978280" y="1886040"/>
            <a:ext cx="1130040" cy="1015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9"/>
          <p:cNvSpPr/>
          <p:nvPr/>
        </p:nvSpPr>
        <p:spPr>
          <a:xfrm flipH="1">
            <a:off x="4520880" y="857160"/>
            <a:ext cx="2622600" cy="56520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0"/>
          <p:cNvSpPr/>
          <p:nvPr/>
        </p:nvSpPr>
        <p:spPr>
          <a:xfrm flipH="1">
            <a:off x="4932000" y="1681200"/>
            <a:ext cx="1955880" cy="56520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1"/>
          <p:cNvSpPr/>
          <p:nvPr/>
        </p:nvSpPr>
        <p:spPr>
          <a:xfrm flipH="1">
            <a:off x="5086440" y="2863800"/>
            <a:ext cx="2365200" cy="2048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2"/>
          <p:cNvSpPr/>
          <p:nvPr/>
        </p:nvSpPr>
        <p:spPr>
          <a:xfrm flipH="1" flipV="1">
            <a:off x="5961240" y="3633480"/>
            <a:ext cx="1131840" cy="2062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3"/>
          <p:cNvSpPr/>
          <p:nvPr/>
        </p:nvSpPr>
        <p:spPr>
          <a:xfrm flipH="1" flipV="1">
            <a:off x="5446800" y="4354560"/>
            <a:ext cx="1131840" cy="7207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4"/>
          <p:cNvSpPr/>
          <p:nvPr/>
        </p:nvSpPr>
        <p:spPr>
          <a:xfrm flipV="1">
            <a:off x="4932360" y="4663800"/>
            <a:ext cx="514440" cy="7189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5"/>
          <p:cNvSpPr/>
          <p:nvPr/>
        </p:nvSpPr>
        <p:spPr>
          <a:xfrm>
            <a:off x="2463840" y="4560840"/>
            <a:ext cx="1079640" cy="2048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6"/>
          <p:cNvSpPr/>
          <p:nvPr/>
        </p:nvSpPr>
        <p:spPr>
          <a:xfrm flipV="1">
            <a:off x="2719440" y="4457880"/>
            <a:ext cx="2212920" cy="123480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7"/>
          <p:cNvSpPr/>
          <p:nvPr/>
        </p:nvSpPr>
        <p:spPr>
          <a:xfrm>
            <a:off x="3130560" y="3274920"/>
            <a:ext cx="1028520" cy="2048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8"/>
          <p:cNvSpPr/>
          <p:nvPr/>
        </p:nvSpPr>
        <p:spPr>
          <a:xfrm>
            <a:off x="98280" y="85680"/>
            <a:ext cx="2305080" cy="1758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 u="sng">
                <a:solidFill>
                  <a:srgbClr val="333399"/>
                </a:solidFill>
                <a:uFillTx/>
                <a:latin typeface="Verdana"/>
                <a:ea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Verdana"/>
                <a:ea typeface="Arial"/>
              </a:rPr>
              <a:t>The following denotes a trust is working in this specialty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9900"/>
                </a:solidFill>
                <a:latin typeface="Verdana"/>
                <a:ea typeface="Arial"/>
              </a:rPr>
              <a:t>(M) Musculoskele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Verdana"/>
                <a:ea typeface="Arial"/>
              </a:rPr>
              <a:t>(C) Colorec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6600cc"/>
                </a:solidFill>
                <a:latin typeface="Verdana"/>
                <a:ea typeface="Arial"/>
              </a:rPr>
              <a:t>(U) Urolo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ff3399"/>
                </a:solidFill>
                <a:latin typeface="Verdana"/>
                <a:ea typeface="Arial"/>
              </a:rPr>
              <a:t>(G) Gynaecolo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Verdana"/>
                <a:ea typeface="Arial"/>
              </a:rPr>
              <a:t>Enhanced Recovery Innovation Sites are shown in r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9"/>
          <p:cNvSpPr/>
          <p:nvPr/>
        </p:nvSpPr>
        <p:spPr>
          <a:xfrm>
            <a:off x="2565360" y="754200"/>
            <a:ext cx="1131840" cy="6084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Verdana"/>
                <a:ea typeface="Arial"/>
              </a:rPr>
              <a:t>Scot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NHS Lothian (M)</a:t>
            </a:r>
            <a:br>
              <a:rPr sz="700"/>
            </a:br>
            <a:r>
              <a:rPr b="0" lang="en-US" sz="700" spc="-1" strike="noStrike">
                <a:solidFill>
                  <a:srgbClr val="ff0000"/>
                </a:solidFill>
                <a:latin typeface="Verdana"/>
                <a:ea typeface="Arial"/>
              </a:rPr>
              <a:t>Gold Jubilee National Hospital (M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2c6"/>
                </a:solidFill>
                <a:latin typeface="Century Gothic"/>
              </a:rPr>
              <a:t>Drivers for Implementation</a:t>
            </a:r>
            <a:br>
              <a:rPr sz="44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Bella Tal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ntro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Objectives for the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mplementa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nderstanding your curre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eam 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ction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takeholde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takeholder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esting and making changes to your pathway Understanding the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Understanding the investment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Maintaining mome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Sustaining th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684360" y="990720"/>
            <a:ext cx="763272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616680" y="685800"/>
            <a:ext cx="23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dience: Pati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609480" y="1219320"/>
            <a:ext cx="80773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ed Recovery is a new way of improving the experience and well-being of patients who need major surger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helps people to recover sooner so that life can return to normal as quickly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gives people a better overall experience due to higher quality care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lets people choose what’s best for them throughout the course of their treatment with help from their GP and the wider healthcare team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No decision about me without me.”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ny people who have experienced Enhanced Recovery say that it makes a hospital stay much less str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ER Logo.jpg"/>
          <p:cNvPicPr/>
          <p:nvPr/>
        </p:nvPicPr>
        <p:blipFill>
          <a:blip r:embed="rId1"/>
          <a:stretch/>
        </p:blipFill>
        <p:spPr>
          <a:xfrm>
            <a:off x="7848720" y="6226200"/>
            <a:ext cx="11430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2"/>
          <p:cNvSpPr/>
          <p:nvPr/>
        </p:nvSpPr>
        <p:spPr>
          <a:xfrm>
            <a:off x="609480" y="1676520"/>
            <a:ext cx="8077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ed Recovery is a new, evidence-based pathway that creates fitter, patients who recover faster from major sur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give patients a better overall experience through higher quality care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introduces innovative best practices that empower and motivate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accelerates the clinical decision-making process by empowering MD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doesn’t increase MDT work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ensures the most-efficient use of healthcar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st-practice is day surgery or an Enhanced Recovery path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"/>
          <p:cNvSpPr/>
          <p:nvPr/>
        </p:nvSpPr>
        <p:spPr>
          <a:xfrm>
            <a:off x="616320" y="685800"/>
            <a:ext cx="427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dience: Multi-Disciplinary Te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ER Logo.jpg"/>
          <p:cNvPicPr/>
          <p:nvPr/>
        </p:nvPicPr>
        <p:blipFill>
          <a:blip r:embed="rId1"/>
          <a:stretch/>
        </p:blipFill>
        <p:spPr>
          <a:xfrm>
            <a:off x="7848720" y="6226200"/>
            <a:ext cx="1143000" cy="479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blacklettering.jpg"/>
          <p:cNvPicPr/>
          <p:nvPr/>
        </p:nvPicPr>
        <p:blipFill>
          <a:blip r:embed="rId2"/>
          <a:stretch/>
        </p:blipFill>
        <p:spPr>
          <a:xfrm>
            <a:off x="128520" y="6477120"/>
            <a:ext cx="48600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822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2c6"/>
                </a:solidFill>
                <a:latin typeface="Century Gothic"/>
              </a:rPr>
              <a:t>Mapping your pathway against the Enhanced Recovery Elements</a:t>
            </a: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Bella</a:t>
            </a:r>
            <a:br>
              <a:rPr sz="36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Tal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derstanding your current serv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4"/>
          <p:cNvGrpSpPr/>
          <p:nvPr/>
        </p:nvGrpSpPr>
        <p:grpSpPr>
          <a:xfrm>
            <a:off x="1042920" y="1916280"/>
            <a:ext cx="7239240" cy="4225680"/>
            <a:chOff x="1042920" y="1916280"/>
            <a:chExt cx="7239240" cy="4225680"/>
          </a:xfrm>
        </p:grpSpPr>
        <p:sp>
          <p:nvSpPr>
            <p:cNvPr id="187" name="AutoShape 5"/>
            <p:cNvSpPr/>
            <p:nvPr/>
          </p:nvSpPr>
          <p:spPr>
            <a:xfrm>
              <a:off x="1042920" y="1916280"/>
              <a:ext cx="7239240" cy="422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6"/>
            <p:cNvSpPr/>
            <p:nvPr/>
          </p:nvSpPr>
          <p:spPr>
            <a:xfrm>
              <a:off x="1112040" y="2403000"/>
              <a:ext cx="2935800" cy="81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7"/>
            <p:cNvSpPr/>
            <p:nvPr/>
          </p:nvSpPr>
          <p:spPr>
            <a:xfrm>
              <a:off x="1247760" y="2455920"/>
              <a:ext cx="2733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dentify elements in place on enhanced recovery pathway ma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8"/>
            <p:cNvSpPr/>
            <p:nvPr/>
          </p:nvSpPr>
          <p:spPr>
            <a:xfrm>
              <a:off x="1112040" y="3376080"/>
              <a:ext cx="2935800" cy="7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9"/>
            <p:cNvSpPr/>
            <p:nvPr/>
          </p:nvSpPr>
          <p:spPr>
            <a:xfrm>
              <a:off x="1179360" y="3430800"/>
              <a:ext cx="2868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udit of compliance with clinical elements on an individual patient ba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5278680" y="2617920"/>
              <a:ext cx="2933280" cy="488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1"/>
            <p:cNvSpPr/>
            <p:nvPr/>
          </p:nvSpPr>
          <p:spPr>
            <a:xfrm>
              <a:off x="5346360" y="2617560"/>
              <a:ext cx="27291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cess map / Walk the patient journ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2"/>
            <p:cNvSpPr/>
            <p:nvPr/>
          </p:nvSpPr>
          <p:spPr>
            <a:xfrm>
              <a:off x="5278680" y="3214080"/>
              <a:ext cx="2933280" cy="48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3"/>
            <p:cNvSpPr/>
            <p:nvPr/>
          </p:nvSpPr>
          <p:spPr>
            <a:xfrm>
              <a:off x="5413680" y="332244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ack patient journe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4"/>
            <p:cNvSpPr/>
            <p:nvPr/>
          </p:nvSpPr>
          <p:spPr>
            <a:xfrm>
              <a:off x="3025080" y="4675680"/>
              <a:ext cx="3344040" cy="121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5"/>
            <p:cNvSpPr/>
            <p:nvPr/>
          </p:nvSpPr>
          <p:spPr>
            <a:xfrm>
              <a:off x="3025440" y="4676760"/>
              <a:ext cx="33436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tient Experi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ngth of St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-operat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admiss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plicat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6"/>
            <p:cNvSpPr/>
            <p:nvPr/>
          </p:nvSpPr>
          <p:spPr>
            <a:xfrm>
              <a:off x="1042920" y="2040120"/>
              <a:ext cx="3073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NICAL INTERVEN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7"/>
            <p:cNvSpPr/>
            <p:nvPr/>
          </p:nvSpPr>
          <p:spPr>
            <a:xfrm>
              <a:off x="5121360" y="2040120"/>
              <a:ext cx="3073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NICAL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8"/>
            <p:cNvSpPr/>
            <p:nvPr/>
          </p:nvSpPr>
          <p:spPr>
            <a:xfrm>
              <a:off x="3160800" y="4295520"/>
              <a:ext cx="3071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UTCO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9"/>
            <p:cNvSpPr/>
            <p:nvPr/>
          </p:nvSpPr>
          <p:spPr>
            <a:xfrm>
              <a:off x="2477880" y="321408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0"/>
            <p:cNvSpPr/>
            <p:nvPr/>
          </p:nvSpPr>
          <p:spPr>
            <a:xfrm>
              <a:off x="6711480" y="3106440"/>
              <a:ext cx="0" cy="1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1"/>
            <p:cNvSpPr/>
            <p:nvPr/>
          </p:nvSpPr>
          <p:spPr>
            <a:xfrm>
              <a:off x="2454840" y="4153320"/>
              <a:ext cx="78372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2"/>
            <p:cNvSpPr/>
            <p:nvPr/>
          </p:nvSpPr>
          <p:spPr>
            <a:xfrm flipH="1">
              <a:off x="6063120" y="3780360"/>
              <a:ext cx="627120" cy="8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47280" y="1268280"/>
            <a:ext cx="6193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Understanding your current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50920" y="1803240"/>
            <a:ext cx="16254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ferral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imary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2549520" y="2644920"/>
            <a:ext cx="1308240" cy="62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1" action="ppaction://hlinksldjump"/>
              </a:rPr>
              <a:t>Pr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2" action="ppaction://hlinksldjump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932280" y="3510000"/>
            <a:ext cx="128736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d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302080" y="4352760"/>
            <a:ext cx="12132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3" action="ppaction://hlinksldjump"/>
              </a:rPr>
              <a:t>Intra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4" action="ppaction://hlinksldjump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6626160" y="5191200"/>
            <a:ext cx="12700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5" action="ppaction://hlinksldjump"/>
              </a:rPr>
              <a:t>Post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6" action="ppaction://hlinksldjump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7951680" y="6058080"/>
            <a:ext cx="941400" cy="61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Fol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5"/>
          <p:cNvSpPr/>
          <p:nvPr/>
        </p:nvSpPr>
        <p:spPr>
          <a:xfrm>
            <a:off x="0" y="3716280"/>
            <a:ext cx="2138400" cy="2705040"/>
          </a:xfrm>
          <a:prstGeom prst="wedgeRoundRectCallout">
            <a:avLst>
              <a:gd name="adj1" fmla="val 75981"/>
              <a:gd name="adj2" fmla="val -72185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ed health / medical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nformed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e operative health &amp; risk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T information and expectation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DX planning (ED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e-operative therapy instruction as appropr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6" descr="MCj04398050000[1]"/>
          <p:cNvPicPr/>
          <p:nvPr/>
        </p:nvPicPr>
        <p:blipFill>
          <a:blip r:embed="rId7"/>
          <a:stretch/>
        </p:blipFill>
        <p:spPr>
          <a:xfrm rot="20949600">
            <a:off x="1636560" y="23205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1" descr="MCj04398050000[1]"/>
          <p:cNvPicPr/>
          <p:nvPr/>
        </p:nvPicPr>
        <p:blipFill>
          <a:blip r:embed="rId8"/>
          <a:stretch/>
        </p:blipFill>
        <p:spPr>
          <a:xfrm rot="20949600">
            <a:off x="3019320" y="317448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2" descr="MCj04398050000[1]"/>
          <p:cNvPicPr/>
          <p:nvPr/>
        </p:nvPicPr>
        <p:blipFill>
          <a:blip r:embed="rId9"/>
          <a:stretch/>
        </p:blipFill>
        <p:spPr>
          <a:xfrm rot="20949600">
            <a:off x="4390920" y="40269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3" descr="MCj04398050000[1]"/>
          <p:cNvPicPr/>
          <p:nvPr/>
        </p:nvPicPr>
        <p:blipFill>
          <a:blip r:embed="rId10"/>
          <a:stretch/>
        </p:blipFill>
        <p:spPr>
          <a:xfrm rot="20949600">
            <a:off x="5713560" y="48621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4" descr="MCj04398050000[1]"/>
          <p:cNvPicPr/>
          <p:nvPr/>
        </p:nvPicPr>
        <p:blipFill>
          <a:blip r:embed="rId11"/>
          <a:stretch/>
        </p:blipFill>
        <p:spPr>
          <a:xfrm rot="20949600">
            <a:off x="7039080" y="5717880"/>
            <a:ext cx="1108080" cy="63828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25"/>
          <p:cNvSpPr/>
          <p:nvPr/>
        </p:nvSpPr>
        <p:spPr>
          <a:xfrm>
            <a:off x="2340000" y="4292640"/>
            <a:ext cx="2519280" cy="2565360"/>
          </a:xfrm>
          <a:prstGeom prst="wedgeRoundRectCallout">
            <a:avLst>
              <a:gd name="adj1" fmla="val 68023"/>
              <a:gd name="adj2" fmla="val -35953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inimally invasive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se of transverse incisions (abdomi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NG tube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se of  regional  / LA with se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pidural management (inc thorac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ed fluid management Individualised goal directed fluid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6"/>
          <p:cNvSpPr/>
          <p:nvPr/>
        </p:nvSpPr>
        <p:spPr>
          <a:xfrm>
            <a:off x="6789600" y="1814400"/>
            <a:ext cx="2152800" cy="3078360"/>
          </a:xfrm>
          <a:prstGeom prst="wedgeRoundRectCallout">
            <a:avLst>
              <a:gd name="adj1" fmla="val -37240"/>
              <a:gd name="adj2" fmla="val 5959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lanned mob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apid hydration &amp; nour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ppropriate IV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wound d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NG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atheters removed 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gular oral analg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aracetamol and NS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voidance of  systemic opiate-based analgesia where possible or administered top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7"/>
          <p:cNvSpPr/>
          <p:nvPr/>
        </p:nvSpPr>
        <p:spPr>
          <a:xfrm>
            <a:off x="4791240" y="1747800"/>
            <a:ext cx="1933560" cy="1692360"/>
          </a:xfrm>
          <a:prstGeom prst="wedgeRoundRectCallout">
            <a:avLst>
              <a:gd name="adj1" fmla="val -68574"/>
              <a:gd name="adj2" fmla="val 5347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dmission on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ed Fluid Hyd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HO Lo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duced sta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/ reduced oral bowel preparation ( 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8"/>
          <p:cNvSpPr/>
          <p:nvPr/>
        </p:nvSpPr>
        <p:spPr>
          <a:xfrm>
            <a:off x="4932360" y="5735520"/>
            <a:ext cx="1976400" cy="1122480"/>
          </a:xfrm>
          <a:prstGeom prst="wedgeRoundRectCallout">
            <a:avLst>
              <a:gd name="adj1" fmla="val 102689"/>
              <a:gd name="adj2" fmla="val -473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DX when criteria 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herapy support (stoma, phys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24hr telephone 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9"/>
          <p:cNvSpPr/>
          <p:nvPr/>
        </p:nvSpPr>
        <p:spPr>
          <a:xfrm>
            <a:off x="2590920" y="1797120"/>
            <a:ext cx="2112840" cy="798480"/>
          </a:xfrm>
          <a:prstGeom prst="wedgeRoundRectCallout">
            <a:avLst>
              <a:gd name="adj1" fmla="val -77875"/>
              <a:gd name="adj2" fmla="val 1689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ing pre operative haemoglobin lev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anaging pre existing co morbidities e.g. diabe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e Pathway Project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85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ort-term inve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upport to change the pathway (e.g. service improvement, change manager, facilitator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raining – new skills e.g. pre-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quipment – invest to s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ommunication/aware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nd out what is already in place &amp; going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ke the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What investment may be requir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Diagram 6"/>
          <p:cNvGrpSpPr/>
          <p:nvPr/>
        </p:nvGrpSpPr>
        <p:grpSpPr>
          <a:xfrm>
            <a:off x="525600" y="1497960"/>
            <a:ext cx="6268680" cy="4934880"/>
            <a:chOff x="525600" y="1497960"/>
            <a:chExt cx="6268680" cy="4934880"/>
          </a:xfrm>
        </p:grpSpPr>
        <p:sp>
          <p:nvSpPr>
            <p:cNvPr id="233" name="_s35848"/>
            <p:cNvSpPr/>
            <p:nvPr/>
          </p:nvSpPr>
          <p:spPr>
            <a:xfrm flipH="1" flipV="1">
              <a:off x="3855600" y="349380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35849"/>
            <p:cNvSpPr/>
            <p:nvPr/>
          </p:nvSpPr>
          <p:spPr>
            <a:xfrm>
              <a:off x="2927160" y="2567160"/>
              <a:ext cx="1085760" cy="10857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nancia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35850"/>
            <p:cNvSpPr/>
            <p:nvPr/>
          </p:nvSpPr>
          <p:spPr>
            <a:xfrm flipH="1">
              <a:off x="3538440" y="4260960"/>
              <a:ext cx="54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5851"/>
            <p:cNvSpPr/>
            <p:nvPr/>
          </p:nvSpPr>
          <p:spPr>
            <a:xfrm>
              <a:off x="2450880" y="3719880"/>
              <a:ext cx="1085760" cy="1085760"/>
            </a:xfrm>
            <a:prstGeom prst="ellipse">
              <a:avLst/>
            </a:prstGeom>
            <a:solidFill>
              <a:srgbClr val="1a0fff"/>
            </a:solidFill>
            <a:ln w="28440">
              <a:solidFill>
                <a:srgbClr val="0a0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ain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35852"/>
            <p:cNvSpPr/>
            <p:nvPr/>
          </p:nvSpPr>
          <p:spPr>
            <a:xfrm flipH="1">
              <a:off x="3855600" y="464364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35853"/>
            <p:cNvSpPr/>
            <p:nvPr/>
          </p:nvSpPr>
          <p:spPr>
            <a:xfrm>
              <a:off x="2928600" y="4870800"/>
              <a:ext cx="1086120" cy="108576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munic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35854"/>
            <p:cNvSpPr/>
            <p:nvPr/>
          </p:nvSpPr>
          <p:spPr>
            <a:xfrm>
              <a:off x="4622400" y="4802400"/>
              <a:ext cx="0" cy="5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35855"/>
            <p:cNvSpPr/>
            <p:nvPr/>
          </p:nvSpPr>
          <p:spPr>
            <a:xfrm>
              <a:off x="4081320" y="5346720"/>
              <a:ext cx="1085760" cy="108612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ystematic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prove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pproa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35856"/>
            <p:cNvSpPr/>
            <p:nvPr/>
          </p:nvSpPr>
          <p:spPr>
            <a:xfrm>
              <a:off x="5005080" y="464364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35857"/>
            <p:cNvSpPr/>
            <p:nvPr/>
          </p:nvSpPr>
          <p:spPr>
            <a:xfrm>
              <a:off x="5232240" y="4869000"/>
              <a:ext cx="1085760" cy="10857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am-work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35858"/>
            <p:cNvSpPr/>
            <p:nvPr/>
          </p:nvSpPr>
          <p:spPr>
            <a:xfrm>
              <a:off x="5163840" y="4260960"/>
              <a:ext cx="54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35859"/>
            <p:cNvSpPr/>
            <p:nvPr/>
          </p:nvSpPr>
          <p:spPr>
            <a:xfrm>
              <a:off x="5708520" y="3718080"/>
              <a:ext cx="1085760" cy="10857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an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nage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kill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35860"/>
            <p:cNvSpPr/>
            <p:nvPr/>
          </p:nvSpPr>
          <p:spPr>
            <a:xfrm flipV="1">
              <a:off x="5005080" y="349380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35861"/>
            <p:cNvSpPr/>
            <p:nvPr/>
          </p:nvSpPr>
          <p:spPr>
            <a:xfrm>
              <a:off x="5230440" y="2567160"/>
              <a:ext cx="1086120" cy="108576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adersh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gagement &amp;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ccountabilit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35862"/>
            <p:cNvSpPr/>
            <p:nvPr/>
          </p:nvSpPr>
          <p:spPr>
            <a:xfrm flipV="1">
              <a:off x="4622400" y="3176280"/>
              <a:ext cx="0" cy="54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35863"/>
            <p:cNvSpPr/>
            <p:nvPr/>
          </p:nvSpPr>
          <p:spPr>
            <a:xfrm>
              <a:off x="4079520" y="2090880"/>
              <a:ext cx="1086120" cy="108576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im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ocu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mit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35864"/>
            <p:cNvSpPr/>
            <p:nvPr/>
          </p:nvSpPr>
          <p:spPr>
            <a:xfrm>
              <a:off x="4079520" y="3719880"/>
              <a:ext cx="1086120" cy="108576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hanced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cover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3"/>
            <p:cNvSpPr/>
            <p:nvPr/>
          </p:nvSpPr>
          <p:spPr>
            <a:xfrm rot="20661000">
              <a:off x="540000" y="2070360"/>
              <a:ext cx="434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Times New Roman"/>
                </a:rPr>
                <a:t>Finance is not the only invest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Practical activities to get you started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Based on the Implementation Gu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ccess to advice, guidance an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Discuss the key elements of your local implementa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entury Gothic"/>
              </a:rPr>
              <a:t>What else is ER aligned 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198880" y="1600200"/>
            <a:ext cx="4750560" cy="4416120"/>
            <a:chOff x="2198880" y="1600200"/>
            <a:chExt cx="4750560" cy="4416120"/>
          </a:xfrm>
        </p:grpSpPr>
        <p:sp>
          <p:nvSpPr>
            <p:cNvPr id="255" name="_s214043"/>
            <p:cNvSpPr/>
            <p:nvPr/>
          </p:nvSpPr>
          <p:spPr>
            <a:xfrm flipH="1" flipV="1">
              <a:off x="3719880" y="2912040"/>
              <a:ext cx="504360" cy="55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14044"/>
            <p:cNvSpPr/>
            <p:nvPr/>
          </p:nvSpPr>
          <p:spPr>
            <a:xfrm>
              <a:off x="2835000" y="2010600"/>
              <a:ext cx="1084320" cy="102060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CAB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14045"/>
            <p:cNvSpPr/>
            <p:nvPr/>
          </p:nvSpPr>
          <p:spPr>
            <a:xfrm flipH="1" flipV="1">
              <a:off x="3270960" y="3649680"/>
              <a:ext cx="768960" cy="12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14046"/>
            <p:cNvSpPr/>
            <p:nvPr/>
          </p:nvSpPr>
          <p:spPr>
            <a:xfrm>
              <a:off x="2198880" y="3046680"/>
              <a:ext cx="1084320" cy="1020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p Tip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214047"/>
            <p:cNvSpPr/>
            <p:nvPr/>
          </p:nvSpPr>
          <p:spPr>
            <a:xfrm flipH="1">
              <a:off x="3430800" y="4114800"/>
              <a:ext cx="674280" cy="36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214048"/>
            <p:cNvSpPr/>
            <p:nvPr/>
          </p:nvSpPr>
          <p:spPr>
            <a:xfrm>
              <a:off x="2419920" y="4226760"/>
              <a:ext cx="1084320" cy="101988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Actual Bed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r>
                <a:rPr b="1" lang="en-GB" sz="1700" spc="-1" strike="noStrike">
                  <a:solidFill>
                    <a:srgbClr val="80808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214049"/>
            <p:cNvSpPr/>
            <p:nvPr/>
          </p:nvSpPr>
          <p:spPr>
            <a:xfrm flipH="1">
              <a:off x="4125240" y="4336560"/>
              <a:ext cx="263880" cy="69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214050"/>
            <p:cNvSpPr/>
            <p:nvPr/>
          </p:nvSpPr>
          <p:spPr>
            <a:xfrm>
              <a:off x="3394800" y="4995720"/>
              <a:ext cx="1084320" cy="10206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Nurs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pensing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214051"/>
            <p:cNvSpPr/>
            <p:nvPr/>
          </p:nvSpPr>
          <p:spPr>
            <a:xfrm>
              <a:off x="4758840" y="4336560"/>
              <a:ext cx="268920" cy="68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214052"/>
            <p:cNvSpPr/>
            <p:nvPr/>
          </p:nvSpPr>
          <p:spPr>
            <a:xfrm>
              <a:off x="4668480" y="4995720"/>
              <a:ext cx="1084680" cy="10206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otocol Le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char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214053"/>
            <p:cNvSpPr/>
            <p:nvPr/>
          </p:nvSpPr>
          <p:spPr>
            <a:xfrm>
              <a:off x="5040000" y="4113000"/>
              <a:ext cx="676440" cy="36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214054"/>
            <p:cNvSpPr/>
            <p:nvPr/>
          </p:nvSpPr>
          <p:spPr>
            <a:xfrm>
              <a:off x="5644080" y="4224600"/>
              <a:ext cx="1084320" cy="1019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Ticke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Hom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214055"/>
            <p:cNvSpPr/>
            <p:nvPr/>
          </p:nvSpPr>
          <p:spPr>
            <a:xfrm flipV="1">
              <a:off x="5103360" y="3642120"/>
              <a:ext cx="768960" cy="12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214056"/>
            <p:cNvSpPr/>
            <p:nvPr/>
          </p:nvSpPr>
          <p:spPr>
            <a:xfrm>
              <a:off x="5864760" y="3044520"/>
              <a:ext cx="1084680" cy="1019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charg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oun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214057"/>
            <p:cNvSpPr/>
            <p:nvPr/>
          </p:nvSpPr>
          <p:spPr>
            <a:xfrm flipV="1">
              <a:off x="4919040" y="2907000"/>
              <a:ext cx="501480" cy="56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214058"/>
            <p:cNvSpPr/>
            <p:nvPr/>
          </p:nvSpPr>
          <p:spPr>
            <a:xfrm>
              <a:off x="5226840" y="2008440"/>
              <a:ext cx="1084320" cy="1019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oductiv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ard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_s214059"/>
            <p:cNvSpPr/>
            <p:nvPr/>
          </p:nvSpPr>
          <p:spPr>
            <a:xfrm flipV="1">
              <a:off x="4571640" y="2617200"/>
              <a:ext cx="0" cy="73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_s214060"/>
            <p:cNvSpPr/>
            <p:nvPr/>
          </p:nvSpPr>
          <p:spPr>
            <a:xfrm>
              <a:off x="4030920" y="1600200"/>
              <a:ext cx="1084320" cy="1019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e – 11 am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char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_s214061"/>
            <p:cNvSpPr/>
            <p:nvPr/>
          </p:nvSpPr>
          <p:spPr>
            <a:xfrm>
              <a:off x="4030920" y="3352680"/>
              <a:ext cx="1084320" cy="1020600"/>
            </a:xfrm>
            <a:prstGeom prst="ellipse">
              <a:avLst/>
            </a:prstGeom>
            <a:solidFill>
              <a:srgbClr val="e1bd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RP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derstanding and improving  systems and proc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2"/>
          <a:stretch/>
        </p:blipFill>
        <p:spPr>
          <a:xfrm>
            <a:off x="979560" y="1600200"/>
            <a:ext cx="7184880" cy="452592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5"/>
          <p:cNvSpPr/>
          <p:nvPr/>
        </p:nvSpPr>
        <p:spPr>
          <a:xfrm>
            <a:off x="971640" y="2924280"/>
            <a:ext cx="7272360" cy="1728720"/>
          </a:xfrm>
          <a:prstGeom prst="rightArrow">
            <a:avLst>
              <a:gd name="adj1" fmla="val 50000"/>
              <a:gd name="adj2" fmla="val 10517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042920" y="349740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atient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dertake mapping and trac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4"/>
          <p:cNvGrpSpPr/>
          <p:nvPr/>
        </p:nvGrpSpPr>
        <p:grpSpPr>
          <a:xfrm>
            <a:off x="1116000" y="2709720"/>
            <a:ext cx="6856200" cy="3462120"/>
            <a:chOff x="1116000" y="2709720"/>
            <a:chExt cx="6856200" cy="3462120"/>
          </a:xfrm>
        </p:grpSpPr>
        <p:sp>
          <p:nvSpPr>
            <p:cNvPr id="284" name="Rectangle 5"/>
            <p:cNvSpPr/>
            <p:nvPr/>
          </p:nvSpPr>
          <p:spPr>
            <a:xfrm>
              <a:off x="2525760" y="270972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6"/>
            <p:cNvSpPr/>
            <p:nvPr/>
          </p:nvSpPr>
          <p:spPr>
            <a:xfrm>
              <a:off x="3743280" y="420156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7"/>
            <p:cNvSpPr/>
            <p:nvPr/>
          </p:nvSpPr>
          <p:spPr>
            <a:xfrm>
              <a:off x="4832640" y="420156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8"/>
            <p:cNvSpPr/>
            <p:nvPr/>
          </p:nvSpPr>
          <p:spPr>
            <a:xfrm>
              <a:off x="5985720" y="420156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9"/>
            <p:cNvSpPr/>
            <p:nvPr/>
          </p:nvSpPr>
          <p:spPr>
            <a:xfrm>
              <a:off x="6050160" y="270972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0"/>
            <p:cNvSpPr/>
            <p:nvPr/>
          </p:nvSpPr>
          <p:spPr>
            <a:xfrm>
              <a:off x="4832640" y="270972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1"/>
            <p:cNvSpPr/>
            <p:nvPr/>
          </p:nvSpPr>
          <p:spPr>
            <a:xfrm>
              <a:off x="3743280" y="270972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5857920" y="555264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4640400" y="555264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3551040" y="555264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2333520" y="555264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>
              <a:off x="1180080" y="555264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7"/>
            <p:cNvSpPr/>
            <p:nvPr/>
          </p:nvSpPr>
          <p:spPr>
            <a:xfrm>
              <a:off x="1116000" y="420156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8"/>
            <p:cNvSpPr/>
            <p:nvPr/>
          </p:nvSpPr>
          <p:spPr>
            <a:xfrm>
              <a:off x="2461320" y="420156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9"/>
            <p:cNvSpPr/>
            <p:nvPr/>
          </p:nvSpPr>
          <p:spPr>
            <a:xfrm>
              <a:off x="7203600" y="420156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20"/>
            <p:cNvSpPr/>
            <p:nvPr/>
          </p:nvSpPr>
          <p:spPr>
            <a:xfrm>
              <a:off x="7203600" y="2709720"/>
              <a:ext cx="768600" cy="619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1"/>
            <p:cNvSpPr/>
            <p:nvPr/>
          </p:nvSpPr>
          <p:spPr>
            <a:xfrm>
              <a:off x="3294720" y="3019320"/>
              <a:ext cx="448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2"/>
            <p:cNvSpPr/>
            <p:nvPr/>
          </p:nvSpPr>
          <p:spPr>
            <a:xfrm>
              <a:off x="4448160" y="3019320"/>
              <a:ext cx="448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3"/>
            <p:cNvSpPr/>
            <p:nvPr/>
          </p:nvSpPr>
          <p:spPr>
            <a:xfrm>
              <a:off x="5665680" y="3019320"/>
              <a:ext cx="448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24"/>
            <p:cNvSpPr/>
            <p:nvPr/>
          </p:nvSpPr>
          <p:spPr>
            <a:xfrm>
              <a:off x="6754680" y="3019320"/>
              <a:ext cx="448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25"/>
            <p:cNvSpPr/>
            <p:nvPr/>
          </p:nvSpPr>
          <p:spPr>
            <a:xfrm>
              <a:off x="7523640" y="3300840"/>
              <a:ext cx="0" cy="844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6"/>
            <p:cNvSpPr/>
            <p:nvPr/>
          </p:nvSpPr>
          <p:spPr>
            <a:xfrm>
              <a:off x="1949040" y="5890320"/>
              <a:ext cx="448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27"/>
            <p:cNvSpPr/>
            <p:nvPr/>
          </p:nvSpPr>
          <p:spPr>
            <a:xfrm>
              <a:off x="3102480" y="5890320"/>
              <a:ext cx="448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28"/>
            <p:cNvSpPr/>
            <p:nvPr/>
          </p:nvSpPr>
          <p:spPr>
            <a:xfrm>
              <a:off x="1404360" y="4792680"/>
              <a:ext cx="0" cy="759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29"/>
            <p:cNvSpPr/>
            <p:nvPr/>
          </p:nvSpPr>
          <p:spPr>
            <a:xfrm>
              <a:off x="5409360" y="5834160"/>
              <a:ext cx="448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30"/>
            <p:cNvSpPr/>
            <p:nvPr/>
          </p:nvSpPr>
          <p:spPr>
            <a:xfrm>
              <a:off x="4320000" y="5834160"/>
              <a:ext cx="448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Understanding your current service - Exerc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the map provided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ing your current service -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 the interventions you already have in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 should also consider when, where and how they   are provided and whether there is further opportunity for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the interventions you need to establish and start to consider the sequence for imple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2c6"/>
                </a:solidFill>
                <a:latin typeface="Century Gothic"/>
              </a:rPr>
              <a:t>Stakeholder Analysis</a:t>
            </a:r>
            <a:br>
              <a:rPr sz="44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Janine Robe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Identifying the tea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ementation requires a number of fac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clinical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care systems and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a team to work across the patient path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require technical and behavioural chang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s start with thinking about who to engage and how to structure the project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ssential Ro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pons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uthority to sanction change (organisational  alignment /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enef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hange Ag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acilitate change, require knowledge, skills and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hamp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spected opinion leaders who positively promot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ead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ead by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8280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8209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8"/>
          <p:cNvSpPr/>
          <p:nvPr/>
        </p:nvSpPr>
        <p:spPr>
          <a:xfrm>
            <a:off x="2124000" y="1413000"/>
            <a:ext cx="4319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2600" y="141444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4492800" y="4303800"/>
            <a:ext cx="1839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15120" y="4494600"/>
            <a:ext cx="1131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563840" y="2349360"/>
            <a:ext cx="6941880" cy="352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7"/>
          <p:cNvSpPr/>
          <p:nvPr/>
        </p:nvSpPr>
        <p:spPr>
          <a:xfrm>
            <a:off x="5086440" y="2392200"/>
            <a:ext cx="0" cy="352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8"/>
          <p:cNvSpPr/>
          <p:nvPr/>
        </p:nvSpPr>
        <p:spPr>
          <a:xfrm>
            <a:off x="1563840" y="4135320"/>
            <a:ext cx="6927840" cy="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1797120" y="2479680"/>
            <a:ext cx="3313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atis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inion fo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Keep satisfi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view regular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"/>
          <p:cNvSpPr/>
          <p:nvPr/>
        </p:nvSpPr>
        <p:spPr>
          <a:xfrm>
            <a:off x="5326200" y="2406600"/>
            <a:ext cx="3313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an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Key Stakeholders need to be fully engaged through full communication &amp; consul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797120" y="4280040"/>
            <a:ext cx="331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nform / 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t crucial to the process but useful to keep in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2"/>
          <p:cNvSpPr/>
          <p:nvPr/>
        </p:nvSpPr>
        <p:spPr>
          <a:xfrm>
            <a:off x="5253120" y="4135320"/>
            <a:ext cx="3170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nvo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Voices that need to be hea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eed to be pro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3"/>
          <p:cNvSpPr/>
          <p:nvPr/>
        </p:nvSpPr>
        <p:spPr>
          <a:xfrm>
            <a:off x="441360" y="275580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High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4"/>
          <p:cNvSpPr/>
          <p:nvPr/>
        </p:nvSpPr>
        <p:spPr>
          <a:xfrm>
            <a:off x="322200" y="3989520"/>
            <a:ext cx="129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Little / No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5"/>
          <p:cNvSpPr/>
          <p:nvPr/>
        </p:nvSpPr>
        <p:spPr>
          <a:xfrm>
            <a:off x="2805120" y="600696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Little / No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6"/>
          <p:cNvSpPr/>
          <p:nvPr/>
        </p:nvSpPr>
        <p:spPr>
          <a:xfrm>
            <a:off x="5548320" y="6006960"/>
            <a:ext cx="13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High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7"/>
          <p:cNvSpPr/>
          <p:nvPr/>
        </p:nvSpPr>
        <p:spPr>
          <a:xfrm flipV="1">
            <a:off x="933480" y="528804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8"/>
          <p:cNvSpPr/>
          <p:nvPr/>
        </p:nvSpPr>
        <p:spPr>
          <a:xfrm>
            <a:off x="933480" y="63673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9"/>
          <p:cNvSpPr/>
          <p:nvPr/>
        </p:nvSpPr>
        <p:spPr>
          <a:xfrm flipV="1">
            <a:off x="933480" y="355896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0"/>
          <p:cNvSpPr/>
          <p:nvPr/>
        </p:nvSpPr>
        <p:spPr>
          <a:xfrm flipV="1">
            <a:off x="3710160" y="6311520"/>
            <a:ext cx="1817640" cy="4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keholder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s S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inciples, elements and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    benefits of ERP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rivers for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urrent and future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3876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ction Plann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takehold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sting changes for improvement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easuring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keholder Eng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guide to stakeholder analysis and manag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S Institute for Innovation and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andbook of Quality and Service improvement Tools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3 Stakeholder and User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2"/>
          <a:stretch/>
        </p:blipFill>
        <p:spPr>
          <a:xfrm>
            <a:off x="395280" y="907920"/>
            <a:ext cx="8280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On the sheets you have record your stakeholders for your chosen pathway(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Then, if you have time -  in relation to each pathway record the key actions needed to ensure effective stakeholder engagement for that work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ome areas will be specific to a pathw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ome areas may cross all 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ome areas may involve the same group of stakeholders but different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822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2c6"/>
                </a:solidFill>
                <a:latin typeface="Century Gothic"/>
              </a:rPr>
              <a:t>Action planning and potential challenges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0072c6"/>
                </a:solidFill>
                <a:latin typeface="Century Gothic"/>
              </a:rPr>
              <a:t>Sophia Mavromma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ction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Take time to deliberate; but when the time for action arrives, stop thinking and go in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-Andrew Jackson quoting Napoleon Bona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8"/>
          <p:cNvSpPr/>
          <p:nvPr/>
        </p:nvSpPr>
        <p:spPr>
          <a:xfrm>
            <a:off x="2627280" y="1527120"/>
            <a:ext cx="555624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29"/>
          <p:cNvSpPr/>
          <p:nvPr/>
        </p:nvSpPr>
        <p:spPr>
          <a:xfrm>
            <a:off x="2627280" y="3152880"/>
            <a:ext cx="2673360" cy="2514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0"/>
          <p:cNvSpPr/>
          <p:nvPr/>
        </p:nvSpPr>
        <p:spPr>
          <a:xfrm>
            <a:off x="5511960" y="1527120"/>
            <a:ext cx="2671560" cy="2895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1"/>
          <p:cNvSpPr/>
          <p:nvPr/>
        </p:nvSpPr>
        <p:spPr>
          <a:xfrm>
            <a:off x="738720" y="3022560"/>
            <a:ext cx="170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amongst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key p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2"/>
          <p:cNvSpPr/>
          <p:nvPr/>
        </p:nvSpPr>
        <p:spPr>
          <a:xfrm>
            <a:off x="4345200" y="5684760"/>
            <a:ext cx="206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Certai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that th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will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3"/>
          <p:cNvSpPr/>
          <p:nvPr/>
        </p:nvSpPr>
        <p:spPr>
          <a:xfrm>
            <a:off x="3047760" y="3951360"/>
            <a:ext cx="92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J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d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J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4"/>
          <p:cNvSpPr/>
          <p:nvPr/>
        </p:nvSpPr>
        <p:spPr>
          <a:xfrm>
            <a:off x="1994040" y="52372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5"/>
          <p:cNvSpPr/>
          <p:nvPr/>
        </p:nvSpPr>
        <p:spPr>
          <a:xfrm>
            <a:off x="7743960" y="5618160"/>
            <a:ext cx="5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6"/>
          <p:cNvSpPr/>
          <p:nvPr/>
        </p:nvSpPr>
        <p:spPr>
          <a:xfrm>
            <a:off x="2141640" y="1503360"/>
            <a:ext cx="5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7"/>
          <p:cNvSpPr/>
          <p:nvPr/>
        </p:nvSpPr>
        <p:spPr>
          <a:xfrm>
            <a:off x="2627280" y="56181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8"/>
          <p:cNvSpPr/>
          <p:nvPr/>
        </p:nvSpPr>
        <p:spPr>
          <a:xfrm>
            <a:off x="6657480" y="1592280"/>
            <a:ext cx="140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Test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a v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39"/>
          <p:cNvSpPr/>
          <p:nvPr/>
        </p:nvSpPr>
        <p:spPr>
          <a:xfrm flipV="1">
            <a:off x="2352600" y="1969920"/>
            <a:ext cx="12600" cy="325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40"/>
          <p:cNvSpPr/>
          <p:nvPr/>
        </p:nvSpPr>
        <p:spPr>
          <a:xfrm>
            <a:off x="3305160" y="5859360"/>
            <a:ext cx="1425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41"/>
          <p:cNvSpPr/>
          <p:nvPr/>
        </p:nvSpPr>
        <p:spPr>
          <a:xfrm flipV="1">
            <a:off x="5943600" y="5871960"/>
            <a:ext cx="180648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524640" y="260280"/>
            <a:ext cx="2440080" cy="86508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Impro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st Do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ris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2c6"/>
                </a:solidFill>
                <a:latin typeface="Century Gothic"/>
              </a:rPr>
              <a:t>Testing Changes for Improvement</a:t>
            </a:r>
            <a:br>
              <a:rPr sz="4000"/>
            </a:br>
            <a:r>
              <a:rPr b="1" lang="en-GB" sz="3600" spc="-1" strike="noStrike">
                <a:solidFill>
                  <a:srgbClr val="0072c6"/>
                </a:solidFill>
                <a:latin typeface="Century Gothic"/>
              </a:rPr>
              <a:t>Sophia Mavromma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8424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25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2c6"/>
                </a:solidFill>
                <a:latin typeface="Century Gothic"/>
              </a:rPr>
              <a:t>Principles, elements and benefits of Enhanced Recovery</a:t>
            </a:r>
            <a:br>
              <a:rPr sz="40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hanced Recovery 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3176640"/>
                <a:gridCol w="1346040"/>
                <a:gridCol w="1870200"/>
                <a:gridCol w="639720"/>
                <a:gridCol w="604800"/>
                <a:gridCol w="592200"/>
              </a:tblGrid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Ow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sour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 Planning &amp;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On your table provided start to fill in from the earlier work today which actions need to be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Who can deliver thes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What is the timescale – 30, 60 or 9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Resourse – flag up what support you may need here to deliver the action – eg connection into the local PCT, facilitator to deliver a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entury Gothic"/>
              </a:rPr>
              <a:t>Include in this the top three challenges that you th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entury Gothic"/>
              </a:rPr>
              <a:t>you will encounter and the actions you will put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entury Gothic"/>
              </a:rPr>
              <a:t>place to work through these challe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2c6"/>
                </a:solidFill>
                <a:latin typeface="Century Gothic"/>
              </a:rPr>
              <a:t>Measuring Outcomes</a:t>
            </a:r>
            <a:br>
              <a:rPr sz="44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Bella Tal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/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-  elements of the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derstanding Your Current Serv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3"/>
          <p:cNvGrpSpPr/>
          <p:nvPr/>
        </p:nvGrpSpPr>
        <p:grpSpPr>
          <a:xfrm>
            <a:off x="1209600" y="2276640"/>
            <a:ext cx="6683400" cy="4225680"/>
            <a:chOff x="1209600" y="2276640"/>
            <a:chExt cx="6683400" cy="4225680"/>
          </a:xfrm>
        </p:grpSpPr>
        <p:sp>
          <p:nvSpPr>
            <p:cNvPr id="418" name="AutoShape 4"/>
            <p:cNvSpPr/>
            <p:nvPr/>
          </p:nvSpPr>
          <p:spPr>
            <a:xfrm>
              <a:off x="1209600" y="2276640"/>
              <a:ext cx="6683400" cy="422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5"/>
            <p:cNvSpPr/>
            <p:nvPr/>
          </p:nvSpPr>
          <p:spPr>
            <a:xfrm>
              <a:off x="1273320" y="2763360"/>
              <a:ext cx="2710080" cy="81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6"/>
            <p:cNvSpPr/>
            <p:nvPr/>
          </p:nvSpPr>
          <p:spPr>
            <a:xfrm>
              <a:off x="1398600" y="2816280"/>
              <a:ext cx="252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dentify elements in place on enhanced recovery pathway ma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7"/>
            <p:cNvSpPr/>
            <p:nvPr/>
          </p:nvSpPr>
          <p:spPr>
            <a:xfrm>
              <a:off x="1273320" y="3736440"/>
              <a:ext cx="2710080" cy="7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8"/>
            <p:cNvSpPr/>
            <p:nvPr/>
          </p:nvSpPr>
          <p:spPr>
            <a:xfrm>
              <a:off x="1334520" y="3791160"/>
              <a:ext cx="26496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udit of compliance with clinical elements on an individual patient ba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9"/>
            <p:cNvSpPr/>
            <p:nvPr/>
          </p:nvSpPr>
          <p:spPr>
            <a:xfrm>
              <a:off x="5119920" y="2978280"/>
              <a:ext cx="2708280" cy="488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0"/>
            <p:cNvSpPr/>
            <p:nvPr/>
          </p:nvSpPr>
          <p:spPr>
            <a:xfrm>
              <a:off x="5182560" y="2977920"/>
              <a:ext cx="2519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cess map / Walk the patient journ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1"/>
            <p:cNvSpPr/>
            <p:nvPr/>
          </p:nvSpPr>
          <p:spPr>
            <a:xfrm>
              <a:off x="5119920" y="3574440"/>
              <a:ext cx="2708280" cy="48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12"/>
            <p:cNvSpPr/>
            <p:nvPr/>
          </p:nvSpPr>
          <p:spPr>
            <a:xfrm>
              <a:off x="5244840" y="3682800"/>
              <a:ext cx="252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ack patient journe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3"/>
            <p:cNvSpPr/>
            <p:nvPr/>
          </p:nvSpPr>
          <p:spPr>
            <a:xfrm>
              <a:off x="3039480" y="5036040"/>
              <a:ext cx="3087360" cy="121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14"/>
            <p:cNvSpPr/>
            <p:nvPr/>
          </p:nvSpPr>
          <p:spPr>
            <a:xfrm>
              <a:off x="3039840" y="5037120"/>
              <a:ext cx="30866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tient Experi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ngth of St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-operat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admiss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plicat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15"/>
            <p:cNvSpPr/>
            <p:nvPr/>
          </p:nvSpPr>
          <p:spPr>
            <a:xfrm>
              <a:off x="1209600" y="2400480"/>
              <a:ext cx="283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NICAL INTERVEN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16"/>
            <p:cNvSpPr/>
            <p:nvPr/>
          </p:nvSpPr>
          <p:spPr>
            <a:xfrm>
              <a:off x="4974840" y="2400480"/>
              <a:ext cx="283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NICAL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17"/>
            <p:cNvSpPr/>
            <p:nvPr/>
          </p:nvSpPr>
          <p:spPr>
            <a:xfrm>
              <a:off x="3164760" y="4655880"/>
              <a:ext cx="283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UTCO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18"/>
            <p:cNvSpPr/>
            <p:nvPr/>
          </p:nvSpPr>
          <p:spPr>
            <a:xfrm>
              <a:off x="2534400" y="357444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19"/>
            <p:cNvSpPr/>
            <p:nvPr/>
          </p:nvSpPr>
          <p:spPr>
            <a:xfrm>
              <a:off x="6442920" y="3466800"/>
              <a:ext cx="0" cy="1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20"/>
            <p:cNvSpPr/>
            <p:nvPr/>
          </p:nvSpPr>
          <p:spPr>
            <a:xfrm>
              <a:off x="2513160" y="4513680"/>
              <a:ext cx="72360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21"/>
            <p:cNvSpPr/>
            <p:nvPr/>
          </p:nvSpPr>
          <p:spPr>
            <a:xfrm flipH="1">
              <a:off x="5843880" y="4140720"/>
              <a:ext cx="579240" cy="8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lide Number Placeholder 1"/>
          <p:cNvSpPr/>
          <p:nvPr/>
        </p:nvSpPr>
        <p:spPr>
          <a:xfrm>
            <a:off x="8089920" y="6512040"/>
            <a:ext cx="946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4486-4BEE-4692-987F-9E0B3479BE45}" type="slidenum">
              <a:rPr b="0" lang="en-CA" sz="900" spc="-1" strike="noStrike">
                <a:solidFill>
                  <a:srgbClr val="00996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785880" y="1635120"/>
            <a:ext cx="143352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ferral 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imary 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2549520" y="2476440"/>
            <a:ext cx="1081080" cy="62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 action="ppaction://hlinksldjump"/>
              </a:rPr>
              <a:t>Pre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3930480" y="3341520"/>
            <a:ext cx="116712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7"/>
          <p:cNvSpPr/>
          <p:nvPr/>
        </p:nvSpPr>
        <p:spPr>
          <a:xfrm>
            <a:off x="5302080" y="4184640"/>
            <a:ext cx="10828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 action="ppaction://hlinksldjump"/>
              </a:rPr>
              <a:t>Intr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8"/>
          <p:cNvSpPr/>
          <p:nvPr/>
        </p:nvSpPr>
        <p:spPr>
          <a:xfrm>
            <a:off x="6626160" y="5022720"/>
            <a:ext cx="10684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 action="ppaction://hlinksldjump"/>
              </a:rPr>
              <a:t>Post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9"/>
          <p:cNvSpPr/>
          <p:nvPr/>
        </p:nvSpPr>
        <p:spPr>
          <a:xfrm>
            <a:off x="7951680" y="5889600"/>
            <a:ext cx="8064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l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0"/>
          <p:cNvSpPr/>
          <p:nvPr/>
        </p:nvSpPr>
        <p:spPr>
          <a:xfrm>
            <a:off x="733320" y="3697200"/>
            <a:ext cx="2347920" cy="1865520"/>
          </a:xfrm>
          <a:prstGeom prst="wedgeRoundRectCallout">
            <a:avLst>
              <a:gd name="adj1" fmla="val 41675"/>
              <a:gd name="adj2" fmla="val -7147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health / medical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Informed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Pre operative health &amp; risk assessment - CP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PT information and expectation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DX planning (ED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11" descr="MCj04398050000[1]"/>
          <p:cNvPicPr/>
          <p:nvPr/>
        </p:nvPicPr>
        <p:blipFill>
          <a:blip r:embed="rId7"/>
          <a:stretch/>
        </p:blipFill>
        <p:spPr>
          <a:xfrm rot="20949600">
            <a:off x="1636560" y="2152440"/>
            <a:ext cx="1108080" cy="6379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MCj04398050000[1]"/>
          <p:cNvPicPr/>
          <p:nvPr/>
        </p:nvPicPr>
        <p:blipFill>
          <a:blip r:embed="rId8"/>
          <a:stretch/>
        </p:blipFill>
        <p:spPr>
          <a:xfrm rot="20949600">
            <a:off x="3019320" y="30063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3" descr="MCj04398050000[1]"/>
          <p:cNvPicPr/>
          <p:nvPr/>
        </p:nvPicPr>
        <p:blipFill>
          <a:blip r:embed="rId9"/>
          <a:stretch/>
        </p:blipFill>
        <p:spPr>
          <a:xfrm rot="20949600">
            <a:off x="4390920" y="385884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4" descr="MCj04398050000[1]"/>
          <p:cNvPicPr/>
          <p:nvPr/>
        </p:nvPicPr>
        <p:blipFill>
          <a:blip r:embed="rId10"/>
          <a:stretch/>
        </p:blipFill>
        <p:spPr>
          <a:xfrm rot="20949600">
            <a:off x="5713560" y="4694040"/>
            <a:ext cx="1108080" cy="6379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5" descr="MCj04398050000[1]"/>
          <p:cNvPicPr/>
          <p:nvPr/>
        </p:nvPicPr>
        <p:blipFill>
          <a:blip r:embed="rId11"/>
          <a:stretch/>
        </p:blipFill>
        <p:spPr>
          <a:xfrm rot="20949600">
            <a:off x="7040520" y="5549760"/>
            <a:ext cx="1106640" cy="638280"/>
          </a:xfrm>
          <a:prstGeom prst="rect">
            <a:avLst/>
          </a:prstGeom>
          <a:ln w="0">
            <a:noFill/>
          </a:ln>
        </p:spPr>
      </p:pic>
      <p:sp>
        <p:nvSpPr>
          <p:cNvPr id="449" name="AutoShape 16"/>
          <p:cNvSpPr/>
          <p:nvPr/>
        </p:nvSpPr>
        <p:spPr>
          <a:xfrm>
            <a:off x="3147840" y="4581360"/>
            <a:ext cx="2084400" cy="2160720"/>
          </a:xfrm>
          <a:prstGeom prst="wedgeRoundRectCallout">
            <a:avLst>
              <a:gd name="adj1" fmla="val 68124"/>
              <a:gd name="adj2" fmla="val -39861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Minimally invasive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Use of transverse in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No NG tube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Use of LA with se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Epidural management (inc thorac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flui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7"/>
          <p:cNvSpPr/>
          <p:nvPr/>
        </p:nvSpPr>
        <p:spPr>
          <a:xfrm>
            <a:off x="6800760" y="1779480"/>
            <a:ext cx="2114640" cy="2494080"/>
          </a:xfrm>
          <a:prstGeom prst="wedgeRoundRectCallout">
            <a:avLst>
              <a:gd name="adj1" fmla="val -37597"/>
              <a:gd name="adj2" fmla="val 7991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Planned mob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Rapid hydration &amp; nour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Appropriate IV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No wound d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No NG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Catheters removed 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Regular oral analg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Paracetamol and NS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Avoidance of opiate-based analgesia where possible or administered top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8"/>
          <p:cNvSpPr/>
          <p:nvPr/>
        </p:nvSpPr>
        <p:spPr>
          <a:xfrm>
            <a:off x="4792680" y="1579680"/>
            <a:ext cx="1932120" cy="1692000"/>
          </a:xfrm>
          <a:prstGeom prst="wedgeRoundRectCallout">
            <a:avLst>
              <a:gd name="adj1" fmla="val -68574"/>
              <a:gd name="adj2" fmla="val 5347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Fluid Hyd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Reduced sta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No / reduced bowel preparation ( 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9"/>
          <p:cNvSpPr/>
          <p:nvPr/>
        </p:nvSpPr>
        <p:spPr>
          <a:xfrm>
            <a:off x="5292720" y="5735520"/>
            <a:ext cx="1949400" cy="927360"/>
          </a:xfrm>
          <a:prstGeom prst="wedgeRoundRectCallout">
            <a:avLst>
              <a:gd name="adj1" fmla="val 86388"/>
              <a:gd name="adj2" fmla="val 479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DX on planned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Therapy support (stoma, phys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"/>
              </a:rPr>
              <a:t>24hr telephone 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20"/>
          <p:cNvSpPr/>
          <p:nvPr/>
        </p:nvSpPr>
        <p:spPr>
          <a:xfrm>
            <a:off x="2579760" y="1450800"/>
            <a:ext cx="2112840" cy="943200"/>
          </a:xfrm>
          <a:prstGeom prst="wedgeRoundRectCallout">
            <a:avLst>
              <a:gd name="adj1" fmla="val -67615"/>
              <a:gd name="adj2" fmla="val -622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ing pre operative haemoglobin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Managing pre existing co morbidities e.g. diab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21"/>
          <p:cNvSpPr/>
          <p:nvPr/>
        </p:nvSpPr>
        <p:spPr>
          <a:xfrm flipH="1">
            <a:off x="7900920" y="4622760"/>
            <a:ext cx="1006560" cy="711360"/>
          </a:xfrm>
          <a:prstGeom prst="wedgeRoundRectCallout">
            <a:avLst>
              <a:gd name="adj1" fmla="val -12907"/>
              <a:gd name="adj2" fmla="val 126319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Audit &amp; outcome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4"/>
          <p:cNvSpPr/>
          <p:nvPr/>
        </p:nvSpPr>
        <p:spPr>
          <a:xfrm>
            <a:off x="0" y="260280"/>
            <a:ext cx="795672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king your baseline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6" descr="View of University College Hospital"/>
          <p:cNvPicPr/>
          <p:nvPr/>
        </p:nvPicPr>
        <p:blipFill>
          <a:blip r:embed="rId12"/>
          <a:stretch/>
        </p:blipFill>
        <p:spPr>
          <a:xfrm>
            <a:off x="6948360" y="247680"/>
            <a:ext cx="187488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hanced Recovery Pathway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Implementation &amp; Sustainability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4103640" cy="244800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4319280" cy="247032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324000" y="4005360"/>
            <a:ext cx="4319280" cy="259236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4"/>
          <a:stretch/>
        </p:blipFill>
        <p:spPr>
          <a:xfrm>
            <a:off x="4716360" y="4005360"/>
            <a:ext cx="4103640" cy="25923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1547640" y="5157720"/>
            <a:ext cx="2737080" cy="93528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93080" y="2205000"/>
            <a:ext cx="1368360" cy="9349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523280" y="5300640"/>
            <a:ext cx="1081080" cy="7207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411280" y="2421000"/>
            <a:ext cx="1873440" cy="86364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308720" y="26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771640" y="4941720"/>
            <a:ext cx="576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659640" y="1989000"/>
            <a:ext cx="8650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132000" y="198900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164360" y="4724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124000" y="177336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P impleme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580000" y="170028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botic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835280" y="466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P impleme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659640" y="444960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QUI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Ann’s story to the </a:t>
            </a:r>
            <a:br>
              <a:rPr sz="3600"/>
            </a:b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Deputy Prime Mini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466560" y="3106800"/>
            <a:ext cx="3446640" cy="247644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5651640" y="2133720"/>
            <a:ext cx="3225600" cy="3671640"/>
          </a:xfrm>
          <a:prstGeom prst="wedgeRoundRectCallout">
            <a:avLst>
              <a:gd name="adj1" fmla="val -109694"/>
              <a:gd name="adj2" fmla="val 1627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d two hip replacements last year. One in June and one in Decemb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ond one was much better, the service is fabulous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2c6"/>
                </a:solidFill>
                <a:latin typeface="Century Gothic"/>
              </a:rPr>
              <a:t>Benefits Realisation</a:t>
            </a:r>
            <a:br>
              <a:rPr sz="40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Janine Rober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Re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2" descr=""/>
          <p:cNvPicPr/>
          <p:nvPr/>
        </p:nvPicPr>
        <p:blipFill>
          <a:blip r:embed="rId2"/>
          <a:stretch/>
        </p:blipFill>
        <p:spPr>
          <a:xfrm>
            <a:off x="2590920" y="1967040"/>
            <a:ext cx="396216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4"/>
          <p:cNvSpPr/>
          <p:nvPr/>
        </p:nvSpPr>
        <p:spPr>
          <a:xfrm>
            <a:off x="108000" y="33336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nhanced Recovery is a new way of improving the experience and well-being of patients who need major surger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t helps people to recover sooner so that life can return to normal as quickly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t gives people a better overall experience due to higher quality care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t lets people choose what’s best for them throughout the course of their treatment with help from their GP and the wider healthcare team (</a:t>
            </a:r>
            <a:r>
              <a:rPr b="0" i="1" lang="en-US" sz="2000" spc="-1" strike="noStrike">
                <a:solidFill>
                  <a:srgbClr val="000000"/>
                </a:solidFill>
                <a:latin typeface="Century Gothic"/>
              </a:rPr>
              <a:t>“No decision about me without me.”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any people who have experienced Enhanced Recovery say that it makes a hospital stay much less str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our Better Sooner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2c6"/>
                </a:solidFill>
                <a:latin typeface="Century Gothic"/>
              </a:rPr>
              <a:t>Next Steps</a:t>
            </a:r>
            <a:br>
              <a:rPr sz="44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Janine Robe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Next ste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aking it happ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ongoing support can we provi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lementa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llow-up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will be your first change you will test or imp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member the importance of a quick win as well as a plan for sustain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vice guidance and support – t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Implementation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Enhanced Recovery Tool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HA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Local Network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CLH Implementation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-learning / DVD / Top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nsight/departments/Projects/QEP/Pages/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ome.asp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ww.improvement.nhs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Principles of 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etting the patient in to the best possible condition for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nsuring the patient has the best possible management during their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nsuring the patient has the best post-operative rehabil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hlets theory – 1980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erastable"/>
          <p:cNvPicPr/>
          <p:nvPr/>
        </p:nvPicPr>
        <p:blipFill>
          <a:blip r:embed="rId2"/>
          <a:stretch/>
        </p:blipFill>
        <p:spPr>
          <a:xfrm>
            <a:off x="1442880" y="1600200"/>
            <a:ext cx="6258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1"/>
          <p:cNvSpPr/>
          <p:nvPr/>
        </p:nvSpPr>
        <p:spPr>
          <a:xfrm>
            <a:off x="8089920" y="6512040"/>
            <a:ext cx="946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FCA1-ABB9-4830-849F-C899D1DE8F81}" type="slidenum">
              <a:rPr b="0" lang="en-CA" sz="900" spc="-1" strike="noStrike">
                <a:solidFill>
                  <a:srgbClr val="00996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785880" y="1635120"/>
            <a:ext cx="143352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ferral 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imary 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549520" y="2476440"/>
            <a:ext cx="1081080" cy="62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 action="ppaction://hlinksldjump"/>
              </a:rPr>
              <a:t>Pre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930480" y="3341520"/>
            <a:ext cx="116712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5302080" y="4184640"/>
            <a:ext cx="10828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 action="ppaction://hlinksldjump"/>
              </a:rPr>
              <a:t>Intr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6626160" y="5022720"/>
            <a:ext cx="10684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 action="ppaction://hlinksldjump"/>
              </a:rPr>
              <a:t>Post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7951680" y="5889600"/>
            <a:ext cx="8064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l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733320" y="3697200"/>
            <a:ext cx="2347920" cy="1865520"/>
          </a:xfrm>
          <a:prstGeom prst="wedgeRoundRectCallout">
            <a:avLst>
              <a:gd name="adj1" fmla="val 41675"/>
              <a:gd name="adj2" fmla="val -7147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health / medical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Informed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Pre operative health &amp; risk assessment - CP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PT information and expectation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DX planning (ED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1" descr="MCj04398050000[1]"/>
          <p:cNvPicPr/>
          <p:nvPr/>
        </p:nvPicPr>
        <p:blipFill>
          <a:blip r:embed="rId7"/>
          <a:stretch/>
        </p:blipFill>
        <p:spPr>
          <a:xfrm rot="20949600">
            <a:off x="1636560" y="2152440"/>
            <a:ext cx="1108080" cy="637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MCj04398050000[1]"/>
          <p:cNvPicPr/>
          <p:nvPr/>
        </p:nvPicPr>
        <p:blipFill>
          <a:blip r:embed="rId8"/>
          <a:stretch/>
        </p:blipFill>
        <p:spPr>
          <a:xfrm rot="20949600">
            <a:off x="3019320" y="30063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MCj04398050000[1]"/>
          <p:cNvPicPr/>
          <p:nvPr/>
        </p:nvPicPr>
        <p:blipFill>
          <a:blip r:embed="rId9"/>
          <a:stretch/>
        </p:blipFill>
        <p:spPr>
          <a:xfrm rot="20949600">
            <a:off x="4390920" y="385884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MCj04398050000[1]"/>
          <p:cNvPicPr/>
          <p:nvPr/>
        </p:nvPicPr>
        <p:blipFill>
          <a:blip r:embed="rId10"/>
          <a:stretch/>
        </p:blipFill>
        <p:spPr>
          <a:xfrm rot="20949600">
            <a:off x="5713560" y="4694040"/>
            <a:ext cx="1108080" cy="637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" descr="MCj04398050000[1]"/>
          <p:cNvPicPr/>
          <p:nvPr/>
        </p:nvPicPr>
        <p:blipFill>
          <a:blip r:embed="rId11"/>
          <a:stretch/>
        </p:blipFill>
        <p:spPr>
          <a:xfrm rot="20949600">
            <a:off x="7040520" y="5549760"/>
            <a:ext cx="1106640" cy="63828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6"/>
          <p:cNvSpPr/>
          <p:nvPr/>
        </p:nvSpPr>
        <p:spPr>
          <a:xfrm>
            <a:off x="3147840" y="4581360"/>
            <a:ext cx="2084400" cy="2160720"/>
          </a:xfrm>
          <a:prstGeom prst="wedgeRoundRectCallout">
            <a:avLst>
              <a:gd name="adj1" fmla="val 68124"/>
              <a:gd name="adj2" fmla="val -39861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Minimally invasive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Use of transverse in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No NG tube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Use of LA with se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Epidural management (inc thorac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flui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7"/>
          <p:cNvSpPr/>
          <p:nvPr/>
        </p:nvSpPr>
        <p:spPr>
          <a:xfrm>
            <a:off x="6800760" y="1779480"/>
            <a:ext cx="2114640" cy="2494080"/>
          </a:xfrm>
          <a:prstGeom prst="wedgeRoundRectCallout">
            <a:avLst>
              <a:gd name="adj1" fmla="val -37597"/>
              <a:gd name="adj2" fmla="val 7991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Planned mob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Rapid hydration &amp; nour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Appropriate IV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No wound d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No NG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Catheters removed 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Regular oral analg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Paracetamol and NS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Avoidance of opiate-based analgesia where possible or administered top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8"/>
          <p:cNvSpPr/>
          <p:nvPr/>
        </p:nvSpPr>
        <p:spPr>
          <a:xfrm>
            <a:off x="4792680" y="1579680"/>
            <a:ext cx="1932120" cy="1692000"/>
          </a:xfrm>
          <a:prstGeom prst="wedgeRoundRectCallout">
            <a:avLst>
              <a:gd name="adj1" fmla="val -68574"/>
              <a:gd name="adj2" fmla="val 5347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Fluid Hyd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Reduced sta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No / reduced bowel preparation ( 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9"/>
          <p:cNvSpPr/>
          <p:nvPr/>
        </p:nvSpPr>
        <p:spPr>
          <a:xfrm>
            <a:off x="5292720" y="5735520"/>
            <a:ext cx="1949400" cy="927360"/>
          </a:xfrm>
          <a:prstGeom prst="wedgeRoundRectCallout">
            <a:avLst>
              <a:gd name="adj1" fmla="val 86388"/>
              <a:gd name="adj2" fmla="val 479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DX on planned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Therapy support (stoma, phys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"/>
              </a:rPr>
              <a:t>24hr telephone 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0"/>
          <p:cNvSpPr/>
          <p:nvPr/>
        </p:nvSpPr>
        <p:spPr>
          <a:xfrm>
            <a:off x="2579760" y="1450800"/>
            <a:ext cx="2112840" cy="943200"/>
          </a:xfrm>
          <a:prstGeom prst="wedgeRoundRectCallout">
            <a:avLst>
              <a:gd name="adj1" fmla="val -67615"/>
              <a:gd name="adj2" fmla="val -622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ing pre operative haemoglobin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Managing pre existing co morbidities e.g. diab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1"/>
          <p:cNvSpPr/>
          <p:nvPr/>
        </p:nvSpPr>
        <p:spPr>
          <a:xfrm flipH="1">
            <a:off x="7900920" y="4622760"/>
            <a:ext cx="1006560" cy="711360"/>
          </a:xfrm>
          <a:prstGeom prst="wedgeRoundRectCallout">
            <a:avLst>
              <a:gd name="adj1" fmla="val -12907"/>
              <a:gd name="adj2" fmla="val 126319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Audit &amp; outcome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Example of ER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6" descr="View of University College Hospital"/>
          <p:cNvPicPr/>
          <p:nvPr/>
        </p:nvPicPr>
        <p:blipFill>
          <a:blip r:embed="rId12"/>
          <a:stretch/>
        </p:blipFill>
        <p:spPr>
          <a:xfrm>
            <a:off x="6948360" y="247680"/>
            <a:ext cx="187488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9:20:26Z</dcterms:created>
  <dc:creator>btalwar</dc:creator>
  <dc:description/>
  <dc:language>en-US</dc:language>
  <cp:lastModifiedBy>LHollins</cp:lastModifiedBy>
  <dcterms:modified xsi:type="dcterms:W3CDTF">2012-03-30T16:44:38Z</dcterms:modified>
  <cp:revision>21</cp:revision>
  <dc:subject/>
  <dc:title>Slide 1</dc:title>
</cp:coreProperties>
</file>