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DBA-7205-48F5-B7ED-55D9179C2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80395B-EDD6-43D6-9F36-4F4380C7636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64762-7423-49D6-9B61-E2E7C8A916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AC03-3B18-43A4-AE25-39721BC07FF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6440" cy="320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6CE57-E592-4C52-9385-45E37AACE83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BC2-7C69-4442-8AAB-C5F15A64043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90600" y="798480"/>
            <a:ext cx="4276800" cy="320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E79-5DA9-4264-B455-A7C5BB86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566-6870-4C4E-9BFC-A6C863DA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1D5-760B-4C2C-9082-DF5E2775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6EF-B14A-4A97-A6A3-D5FF61E6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FD6-D448-4500-B9A8-8C67573A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9B8-6A45-4125-B204-FBB23F07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6EE-0054-41FF-BEA7-CF2147F6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456-54B2-4E36-A6D6-B850AB4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FD3-7A0B-4D20-94AA-20B61F2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C75-09A6-4D0E-AB1A-493CDB8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B1D-1FE2-49A3-8FA9-99096AF9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991-C74C-4167-85CD-E42E5B3C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F64D-BCAA-49FE-82E7-994896BF0A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h.gov.uk/enhancedrecover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dh.gov.uk/en/Healthcare/Electivecare/Enhancedrecovery/DH_115638" TargetMode="External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1728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Program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e5"/>
                </a:solidFill>
                <a:latin typeface="Arial"/>
              </a:rPr>
              <a:t>Helping patients to get better sooner after surgery’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 improve the quality of patients care by improving their experience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-learning module will take 20 minutes and there will be a short assessment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259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49A-BAAB-4FD3-977A-8D68BF514B52}" type="slidenum">
              <a:rPr b="1" lang="en-CA" sz="20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923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084720" y="22860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to consider for Surg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.cover.gif"/>
          <p:cNvPicPr/>
          <p:nvPr/>
        </p:nvPicPr>
        <p:blipFill>
          <a:blip r:embed="rId2"/>
          <a:stretch/>
        </p:blipFill>
        <p:spPr>
          <a:xfrm>
            <a:off x="1389240" y="609480"/>
            <a:ext cx="1785600" cy="25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644688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9772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59c2"/>
                </a:solidFill>
                <a:latin typeface="Arial"/>
              </a:rPr>
              <a:t>Fit for Surgery? Mythen MG. Anesthesia and Analgesia: April and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key drivers for change within the quality and safety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linical quality, patient safety and clinci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 with CQUINS and PbR tar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we measur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 high quality data to support practic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what 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(compliance with the clinical path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(compl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experience (satisf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, evaluate, refine and embed change based on evidence of own practice.  Benefits realisation can take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 is Clinically Led with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ical leadership is crucial for successful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ers are respected role models who can influence peers and other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and engagement of all members within the MDT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ment, Change management, Faciliators, , senior management support and key stakeholder support and engagement is an ongoing process, and not just at the outset of the implement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hos of the Clinic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lebrate the success of your work and 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 mutual respect and value the different and complementary roles of the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age in the top tips for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he ‘can do’ culture that empowers and enables clinical teams to test new ways of working, without fear, risk or b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are the strong relationships between managers and clinicians with quality &amp; safety being high on the executive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41240" y="34596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60080"/>
            <a:ext cx="799308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Benefits from Informed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(shared) decision making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280" y="1585440"/>
            <a:ext cx="7081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cision aids provi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atients in making the best decision for their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o help them understand whether to have a diagnostic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of their condition and the progression of their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atment options available to them, the side effects and benefits of each o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bout the issues that are most important to them/their p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 is important at UCLH and n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112" name="_s131079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1080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1081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1082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1083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1084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1085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1086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1087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1088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1089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1090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1091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1092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1093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1094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1095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1096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1097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135" name="_s129031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29032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9033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29034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29035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9036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29037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9038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9039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9040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9041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9042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9043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44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45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46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47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356760"/>
            <a:ext cx="51181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entury Gothic"/>
              </a:rPr>
              <a:t>National program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o SHAs to lead a local spread and adoption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support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h.gov.uk/enhanced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ting emergent evidence working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inio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keholder engagement with national bodies to embed enhanced recovery as the standard mod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cy alignment to support local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I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hanced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t is important at UCLH and n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it for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ral from Prima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alth problems are identified &amp; managed to enable the patient to be in the best possible condition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evidence based management during and after 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bilisation and timely discharge for the best rehabilitation wit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Recovery for Pati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950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m a partner with you in thei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he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ir questions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reatment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m moving soon afte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not gain if their in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behave as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fidence to go home and get in touch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decision about me without m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MDT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263160"/>
            <a:ext cx="6049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i="1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in it for Primary Ca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patients a better overall experience through higher quality care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uts GPs in control of commissioning the right pathways for thei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patient discharge doesn’t create extra workload for primary or social car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mproves efficiency and productivity whilst improv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and patients work in partnership through informed decision-making and great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inically proven approach to faster patien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 – Greatest Challenges – Opportunities for Commissio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tness for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uly 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ust discharg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y r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91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05440" cy="57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1058760" y="6284880"/>
            <a:ext cx="73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For copies of the clinical evidence compendium or further information contac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http://www.dh.gov.uk/en/Healthcare/Electivecare/Enhancedrecovery/DH_115638</a:t>
            </a:r>
            <a:r>
              <a:rPr b="0" lang="en-US" sz="1200" spc="-1" strike="noStrike" u="sng">
                <a:solidFill>
                  <a:srgbClr val="3e3094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575400" y="1303200"/>
            <a:ext cx="2568600" cy="417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0200" y="402840"/>
            <a:ext cx="56530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5210280" y="2082960"/>
            <a:ext cx="2392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4541760" y="3282840"/>
            <a:ext cx="2181240" cy="337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1030320" y="1414440"/>
            <a:ext cx="328752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principl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elective surgery with an innovative, high quality car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are in the optimal condition for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a better care experience before, during and after their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a role for every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6360" y="603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988920" y="1627200"/>
            <a:ext cx="326700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959360" y="2784600"/>
            <a:ext cx="37861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ting pati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c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ting bureaucrac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7920" y="1459080"/>
            <a:ext cx="368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re principles of enhanced recovery are aligned to the Health White Pa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t makes a difference to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ne there was no Enhanced Recovery Programme in place but in December there w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1880" y="118800"/>
            <a:ext cx="7727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26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4358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tential capacity rele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atient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Trad and ER Pathway.bmp"/>
          <p:cNvPicPr/>
          <p:nvPr/>
        </p:nvPicPr>
        <p:blipFill>
          <a:blip r:embed="rId1"/>
          <a:srcRect l="1775" t="1392" r="1775" b="1801"/>
          <a:stretch/>
        </p:blipFill>
        <p:spPr>
          <a:xfrm>
            <a:off x="289080" y="1557360"/>
            <a:ext cx="8604000" cy="504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513400" y="5203800"/>
            <a:ext cx="294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pathwa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200 per day pp)= £2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Reduction ER = £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07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Influencing Patient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574280"/>
            <a:ext cx="38066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rastable"/>
          <p:cNvPicPr/>
          <p:nvPr/>
        </p:nvPicPr>
        <p:blipFill>
          <a:blip r:embed="rId1"/>
          <a:stretch/>
        </p:blipFill>
        <p:spPr>
          <a:xfrm>
            <a:off x="1434960" y="1738440"/>
            <a:ext cx="6496200" cy="43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19640" y="537372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NAH - Could this slide be combined in some way with the next one (mountain).  Will need to include reference but we can do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et’s Theory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different stages of car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ther health problems are identified &amp; managed to enable the patient to be in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possible evidence based management is given to the patient during and after 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are encouraged with early mobilisation and timely discharge for the best rehabilitation wit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78960"/>
            <a:ext cx="89647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nhanced Recovery Elements at key stages of th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9DDC-60E4-4E28-9B50-8593110405EE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39:24Z</dcterms:created>
  <dc:creator>btalwar</dc:creator>
  <dc:description/>
  <dc:language>en-US</dc:language>
  <cp:lastModifiedBy>LHollins</cp:lastModifiedBy>
  <dcterms:modified xsi:type="dcterms:W3CDTF">2012-03-30T16:45:28Z</dcterms:modified>
  <cp:revision>21</cp:revision>
  <dc:subject/>
  <dc:title>Enhanced Recovery e-learning module</dc:title>
</cp:coreProperties>
</file>