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E9FC-9E8A-45FF-9F02-D1F6847DF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26F0-35C3-482E-BE84-30B50C8FC060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18Z</dcterms:modified>
  <cp:revision>37</cp:revision>
  <dc:subject/>
  <dc:title>Add title here</dc:title>
</cp:coreProperties>
</file>