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BCA2-C5B6-4765-8C6A-E1F5D442C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0B41-997C-4B79-8402-9E14807B3E1E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34Z</dcterms:modified>
  <cp:revision>37</cp:revision>
  <dc:subject/>
  <dc:title>Add title here</dc:title>
</cp:coreProperties>
</file>